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6438-9699-43B6-915C-F4C81AC0E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4065-7DCC-4C9B-9425-64D335F3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D150-EEEE-4A8C-BE19-B644907A1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1699-8066-4E1C-A52F-6A5F66073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0867-6A75-412F-B95E-C09F499CC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70BD-5BC5-4C8C-986C-2BC2F607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ED9F-539F-43DB-AB99-0A3071A7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D6EE-BA46-4CC6-A035-11EBB447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4007-5971-437C-9B85-8BAAA11F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159E-0C77-4711-AFE9-81B7546C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9C2E-0060-403A-B4E8-06C5E522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6F4A-0349-486D-B288-6B6A4CC6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EB55-D2B9-4DA8-AAC2-F382AAD9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05B4-CCA4-481E-B2DB-3C3B8318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ED4F-297F-4DD6-A2A0-BED73A51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581B-E7AD-4F6A-B11B-A44A446DF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A5A6-324F-4D4F-BB79-0BF461717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6F80-86E0-493D-9388-39471CA2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5CAA-81CA-4260-AD33-1B01096A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3B43-481C-4AA2-A875-D31319F2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AFA0-F386-492A-ACD8-544638EA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C6F1-5FC0-4EEE-ADE8-48D88573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F28F-4177-4A1C-A8C9-FE0C58EB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227A-ABA3-4CA5-9327-4A728FD2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2CE4-C574-46BA-B88B-5D3547FF34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BF90-D76B-41F3-9E11-08578D04ED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a stem-and-leaf plot of the following data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11, 223, 201, 227, 226, 226, 207, 215, 223, 217, 201, 23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54120" y="4375080"/>
            <a:ext cx="660600" cy="233280"/>
          </a:xfrm>
          <a:custGeom>
            <a:avLst/>
            <a:gdLst/>
            <a:ahLst/>
            <a:rect l="l" t="t" r="r" b="b"/>
            <a:pathLst>
              <a:path w="1837" h="646">
                <a:moveTo>
                  <a:pt x="4638" y="12254"/>
                </a:moveTo>
                <a:cubicBezTo>
                  <a:pt x="4660" y="12261"/>
                  <a:pt x="4691" y="12283"/>
                  <a:pt x="4663" y="12229"/>
                </a:cubicBezTo>
                <a:cubicBezTo>
                  <a:pt x="4610" y="12127"/>
                  <a:pt x="4501" y="12122"/>
                  <a:pt x="4415" y="12204"/>
                </a:cubicBezTo>
                <a:cubicBezTo>
                  <a:pt x="4366" y="12278"/>
                  <a:pt x="4349" y="12303"/>
                  <a:pt x="4316" y="12353"/>
                </a:cubicBezTo>
                <a:cubicBezTo>
                  <a:pt x="4434" y="12487"/>
                  <a:pt x="4587" y="12436"/>
                  <a:pt x="4738" y="12526"/>
                </a:cubicBezTo>
                <a:cubicBezTo>
                  <a:pt x="4886" y="12614"/>
                  <a:pt x="4758" y="12768"/>
                  <a:pt x="4638" y="12799"/>
                </a:cubicBezTo>
                <a:cubicBezTo>
                  <a:pt x="4517" y="12831"/>
                  <a:pt x="4482" y="12774"/>
                  <a:pt x="4415" y="12700"/>
                </a:cubicBezTo>
              </a:path>
              <a:path w="1837" h="646">
                <a:moveTo>
                  <a:pt x="4961" y="12303"/>
                </a:moveTo>
                <a:cubicBezTo>
                  <a:pt x="5009" y="12461"/>
                  <a:pt x="5051" y="12609"/>
                  <a:pt x="5060" y="12774"/>
                </a:cubicBezTo>
                <a:cubicBezTo>
                  <a:pt x="5060" y="12782"/>
                  <a:pt x="5060" y="12791"/>
                  <a:pt x="5060" y="12799"/>
                </a:cubicBezTo>
              </a:path>
              <a:path w="1837" h="646">
                <a:moveTo>
                  <a:pt x="4837" y="12576"/>
                </a:moveTo>
                <a:cubicBezTo>
                  <a:pt x="4996" y="12563"/>
                  <a:pt x="5148" y="12551"/>
                  <a:pt x="5308" y="12551"/>
                </a:cubicBezTo>
                <a:cubicBezTo>
                  <a:pt x="5391" y="12551"/>
                  <a:pt x="5407" y="12551"/>
                  <a:pt x="5457" y="12551"/>
                </a:cubicBezTo>
                <a:cubicBezTo>
                  <a:pt x="5443" y="12480"/>
                  <a:pt x="5396" y="12402"/>
                  <a:pt x="5308" y="12402"/>
                </a:cubicBezTo>
                <a:cubicBezTo>
                  <a:pt x="5166" y="12402"/>
                  <a:pt x="5137" y="12574"/>
                  <a:pt x="5184" y="12675"/>
                </a:cubicBezTo>
                <a:cubicBezTo>
                  <a:pt x="5258" y="12835"/>
                  <a:pt x="5426" y="12704"/>
                  <a:pt x="5507" y="12650"/>
                </a:cubicBezTo>
              </a:path>
              <a:path w="1837" h="646">
                <a:moveTo>
                  <a:pt x="5581" y="12477"/>
                </a:moveTo>
                <a:cubicBezTo>
                  <a:pt x="5591" y="12539"/>
                  <a:pt x="5615" y="12599"/>
                  <a:pt x="5631" y="12650"/>
                </a:cubicBezTo>
                <a:cubicBezTo>
                  <a:pt x="5631" y="12658"/>
                  <a:pt x="5631" y="12667"/>
                  <a:pt x="5631" y="12675"/>
                </a:cubicBezTo>
                <a:cubicBezTo>
                  <a:pt x="5619" y="12595"/>
                  <a:pt x="5559" y="12481"/>
                  <a:pt x="5655" y="12427"/>
                </a:cubicBezTo>
                <a:cubicBezTo>
                  <a:pt x="5739" y="12380"/>
                  <a:pt x="5858" y="12510"/>
                  <a:pt x="5879" y="12576"/>
                </a:cubicBezTo>
                <a:cubicBezTo>
                  <a:pt x="5879" y="12618"/>
                  <a:pt x="5887" y="12634"/>
                  <a:pt x="5854" y="12626"/>
                </a:cubicBezTo>
                <a:cubicBezTo>
                  <a:pt x="5854" y="12541"/>
                  <a:pt x="5843" y="12478"/>
                  <a:pt x="5904" y="12402"/>
                </a:cubicBezTo>
                <a:cubicBezTo>
                  <a:pt x="6010" y="12270"/>
                  <a:pt x="6098" y="12412"/>
                  <a:pt x="6127" y="12502"/>
                </a:cubicBezTo>
                <a:cubicBezTo>
                  <a:pt x="6151" y="12576"/>
                  <a:pt x="6152" y="12626"/>
                  <a:pt x="6152" y="1270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71840" y="4224240"/>
            <a:ext cx="660240" cy="303480"/>
          </a:xfrm>
          <a:custGeom>
            <a:avLst/>
            <a:gdLst/>
            <a:ahLst/>
            <a:rect l="l" t="t" r="r" b="b"/>
            <a:pathLst>
              <a:path w="1836" h="844">
                <a:moveTo>
                  <a:pt x="7144" y="11981"/>
                </a:moveTo>
                <a:cubicBezTo>
                  <a:pt x="7185" y="12175"/>
                  <a:pt x="7188" y="12331"/>
                  <a:pt x="7169" y="12526"/>
                </a:cubicBezTo>
                <a:cubicBezTo>
                  <a:pt x="7169" y="12543"/>
                  <a:pt x="7169" y="12559"/>
                  <a:pt x="7169" y="12576"/>
                </a:cubicBezTo>
                <a:cubicBezTo>
                  <a:pt x="7294" y="12558"/>
                  <a:pt x="7369" y="12455"/>
                  <a:pt x="7516" y="12452"/>
                </a:cubicBezTo>
                <a:cubicBezTo>
                  <a:pt x="7589" y="12451"/>
                  <a:pt x="7668" y="12490"/>
                  <a:pt x="7739" y="12502"/>
                </a:cubicBezTo>
              </a:path>
              <a:path w="1836" h="844">
                <a:moveTo>
                  <a:pt x="7838" y="12378"/>
                </a:moveTo>
                <a:cubicBezTo>
                  <a:pt x="7900" y="12357"/>
                  <a:pt x="8006" y="12316"/>
                  <a:pt x="8037" y="12303"/>
                </a:cubicBezTo>
                <a:cubicBezTo>
                  <a:pt x="8045" y="12303"/>
                  <a:pt x="8054" y="12303"/>
                  <a:pt x="8062" y="12303"/>
                </a:cubicBezTo>
                <a:cubicBezTo>
                  <a:pt x="7978" y="12234"/>
                  <a:pt x="7905" y="12147"/>
                  <a:pt x="7813" y="12254"/>
                </a:cubicBezTo>
                <a:cubicBezTo>
                  <a:pt x="7762" y="12331"/>
                  <a:pt x="7746" y="12359"/>
                  <a:pt x="7764" y="12427"/>
                </a:cubicBezTo>
                <a:cubicBezTo>
                  <a:pt x="7933" y="12466"/>
                  <a:pt x="8149" y="12456"/>
                  <a:pt x="8310" y="12378"/>
                </a:cubicBezTo>
                <a:cubicBezTo>
                  <a:pt x="8409" y="12330"/>
                  <a:pt x="8578" y="12211"/>
                  <a:pt x="8483" y="12154"/>
                </a:cubicBezTo>
                <a:cubicBezTo>
                  <a:pt x="8322" y="12225"/>
                  <a:pt x="8263" y="12274"/>
                  <a:pt x="8235" y="12452"/>
                </a:cubicBezTo>
                <a:cubicBezTo>
                  <a:pt x="8369" y="12482"/>
                  <a:pt x="8417" y="12435"/>
                  <a:pt x="8458" y="12303"/>
                </a:cubicBezTo>
                <a:cubicBezTo>
                  <a:pt x="8458" y="12278"/>
                  <a:pt x="8458" y="12270"/>
                  <a:pt x="8458" y="12303"/>
                </a:cubicBezTo>
                <a:cubicBezTo>
                  <a:pt x="8526" y="12384"/>
                  <a:pt x="8557" y="12472"/>
                  <a:pt x="8682" y="12402"/>
                </a:cubicBezTo>
                <a:cubicBezTo>
                  <a:pt x="8723" y="12369"/>
                  <a:pt x="8765" y="12336"/>
                  <a:pt x="8806" y="12303"/>
                </a:cubicBezTo>
              </a:path>
              <a:path w="1836" h="844">
                <a:moveTo>
                  <a:pt x="8930" y="11757"/>
                </a:moveTo>
                <a:cubicBezTo>
                  <a:pt x="8861" y="11717"/>
                  <a:pt x="8783" y="11732"/>
                  <a:pt x="8731" y="11807"/>
                </a:cubicBezTo>
                <a:cubicBezTo>
                  <a:pt x="8630" y="11951"/>
                  <a:pt x="8700" y="12108"/>
                  <a:pt x="8756" y="12254"/>
                </a:cubicBezTo>
                <a:cubicBezTo>
                  <a:pt x="8785" y="12330"/>
                  <a:pt x="8795" y="12397"/>
                  <a:pt x="8855" y="12427"/>
                </a:cubicBezTo>
              </a:path>
              <a:path w="1836" h="844">
                <a:moveTo>
                  <a:pt x="8632" y="12154"/>
                </a:moveTo>
                <a:cubicBezTo>
                  <a:pt x="8751" y="12131"/>
                  <a:pt x="8864" y="12101"/>
                  <a:pt x="8979" y="1208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09880" y="3000240"/>
            <a:ext cx="768240" cy="642960"/>
          </a:xfrm>
          <a:custGeom>
            <a:avLst/>
            <a:gdLst/>
            <a:ahLst/>
            <a:rect l="l" t="t" r="r" b="b"/>
            <a:pathLst>
              <a:path w="2134" h="1787">
                <a:moveTo>
                  <a:pt x="6896" y="8384"/>
                </a:moveTo>
                <a:cubicBezTo>
                  <a:pt x="6904" y="8376"/>
                  <a:pt x="6913" y="8367"/>
                  <a:pt x="6921" y="8359"/>
                </a:cubicBezTo>
                <a:cubicBezTo>
                  <a:pt x="6921" y="8488"/>
                  <a:pt x="6916" y="8609"/>
                  <a:pt x="6896" y="8731"/>
                </a:cubicBezTo>
                <a:cubicBezTo>
                  <a:pt x="6878" y="8838"/>
                  <a:pt x="6891" y="8957"/>
                  <a:pt x="6871" y="9054"/>
                </a:cubicBezTo>
                <a:cubicBezTo>
                  <a:pt x="6858" y="9119"/>
                  <a:pt x="6840" y="9295"/>
                  <a:pt x="6846" y="9351"/>
                </a:cubicBezTo>
                <a:cubicBezTo>
                  <a:pt x="6853" y="9417"/>
                  <a:pt x="6871" y="9477"/>
                  <a:pt x="6871" y="9550"/>
                </a:cubicBezTo>
                <a:cubicBezTo>
                  <a:pt x="6871" y="9708"/>
                  <a:pt x="6871" y="10021"/>
                  <a:pt x="6871" y="10096"/>
                </a:cubicBezTo>
              </a:path>
              <a:path w="2134" h="1787">
                <a:moveTo>
                  <a:pt x="7714" y="8359"/>
                </a:moveTo>
                <a:cubicBezTo>
                  <a:pt x="7622" y="8408"/>
                  <a:pt x="7573" y="8443"/>
                  <a:pt x="7491" y="8508"/>
                </a:cubicBezTo>
                <a:cubicBezTo>
                  <a:pt x="7135" y="8794"/>
                  <a:pt x="6742" y="8997"/>
                  <a:pt x="6350" y="9227"/>
                </a:cubicBezTo>
                <a:cubicBezTo>
                  <a:pt x="6207" y="9310"/>
                  <a:pt x="5960" y="9407"/>
                  <a:pt x="5829" y="9500"/>
                </a:cubicBezTo>
                <a:cubicBezTo>
                  <a:pt x="5799" y="9521"/>
                  <a:pt x="5708" y="9663"/>
                  <a:pt x="5680" y="9699"/>
                </a:cubicBezTo>
                <a:cubicBezTo>
                  <a:pt x="5642" y="9748"/>
                  <a:pt x="5636" y="9769"/>
                  <a:pt x="5606" y="982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44840" y="4768920"/>
            <a:ext cx="339480" cy="1428840"/>
          </a:xfrm>
          <a:custGeom>
            <a:avLst/>
            <a:gdLst/>
            <a:ahLst/>
            <a:rect l="l" t="t" r="r" b="b"/>
            <a:pathLst>
              <a:path w="944" h="3969">
                <a:moveTo>
                  <a:pt x="7243" y="14288"/>
                </a:moveTo>
                <a:cubicBezTo>
                  <a:pt x="7181" y="14308"/>
                  <a:pt x="7212" y="14594"/>
                  <a:pt x="7218" y="14660"/>
                </a:cubicBezTo>
                <a:cubicBezTo>
                  <a:pt x="7227" y="14753"/>
                  <a:pt x="7259" y="14844"/>
                  <a:pt x="7268" y="14932"/>
                </a:cubicBezTo>
                <a:cubicBezTo>
                  <a:pt x="7270" y="14956"/>
                  <a:pt x="7268" y="14983"/>
                  <a:pt x="7268" y="15007"/>
                </a:cubicBezTo>
              </a:path>
              <a:path w="944" h="3969">
                <a:moveTo>
                  <a:pt x="7268" y="15528"/>
                </a:moveTo>
                <a:cubicBezTo>
                  <a:pt x="7245" y="15471"/>
                  <a:pt x="7304" y="15364"/>
                  <a:pt x="7392" y="15354"/>
                </a:cubicBezTo>
                <a:cubicBezTo>
                  <a:pt x="7504" y="15341"/>
                  <a:pt x="7595" y="15445"/>
                  <a:pt x="7565" y="15553"/>
                </a:cubicBezTo>
                <a:cubicBezTo>
                  <a:pt x="7544" y="15628"/>
                  <a:pt x="7445" y="15746"/>
                  <a:pt x="7392" y="15776"/>
                </a:cubicBezTo>
                <a:cubicBezTo>
                  <a:pt x="7384" y="15776"/>
                  <a:pt x="7375" y="15776"/>
                  <a:pt x="7367" y="15776"/>
                </a:cubicBezTo>
                <a:cubicBezTo>
                  <a:pt x="7388" y="15694"/>
                  <a:pt x="7468" y="15693"/>
                  <a:pt x="7541" y="15726"/>
                </a:cubicBezTo>
                <a:cubicBezTo>
                  <a:pt x="7690" y="15793"/>
                  <a:pt x="7628" y="15946"/>
                  <a:pt x="7516" y="16024"/>
                </a:cubicBezTo>
                <a:cubicBezTo>
                  <a:pt x="7400" y="16104"/>
                  <a:pt x="7331" y="16060"/>
                  <a:pt x="7218" y="16049"/>
                </a:cubicBezTo>
                <a:cubicBezTo>
                  <a:pt x="7210" y="16049"/>
                  <a:pt x="7201" y="16049"/>
                  <a:pt x="7193" y="16049"/>
                </a:cubicBezTo>
              </a:path>
              <a:path w="944" h="3969">
                <a:moveTo>
                  <a:pt x="7069" y="13271"/>
                </a:moveTo>
                <a:cubicBezTo>
                  <a:pt x="7069" y="13188"/>
                  <a:pt x="7089" y="13386"/>
                  <a:pt x="7094" y="13469"/>
                </a:cubicBezTo>
                <a:cubicBezTo>
                  <a:pt x="7104" y="13659"/>
                  <a:pt x="7094" y="14180"/>
                  <a:pt x="7094" y="13990"/>
                </a:cubicBezTo>
              </a:path>
              <a:path w="944" h="3969">
                <a:moveTo>
                  <a:pt x="7293" y="16545"/>
                </a:moveTo>
                <a:cubicBezTo>
                  <a:pt x="7260" y="16504"/>
                  <a:pt x="7228" y="16484"/>
                  <a:pt x="7268" y="16396"/>
                </a:cubicBezTo>
                <a:cubicBezTo>
                  <a:pt x="7313" y="16297"/>
                  <a:pt x="7465" y="16215"/>
                  <a:pt x="7565" y="16297"/>
                </a:cubicBezTo>
                <a:cubicBezTo>
                  <a:pt x="7691" y="16399"/>
                  <a:pt x="7602" y="16649"/>
                  <a:pt x="7565" y="16768"/>
                </a:cubicBezTo>
                <a:cubicBezTo>
                  <a:pt x="7516" y="16926"/>
                  <a:pt x="7433" y="17022"/>
                  <a:pt x="7342" y="17140"/>
                </a:cubicBezTo>
                <a:cubicBezTo>
                  <a:pt x="7315" y="17176"/>
                  <a:pt x="7320" y="17197"/>
                  <a:pt x="7268" y="17214"/>
                </a:cubicBezTo>
                <a:cubicBezTo>
                  <a:pt x="7260" y="17214"/>
                  <a:pt x="7251" y="17214"/>
                  <a:pt x="7243" y="17214"/>
                </a:cubicBezTo>
                <a:cubicBezTo>
                  <a:pt x="7316" y="17081"/>
                  <a:pt x="7365" y="17071"/>
                  <a:pt x="7516" y="17115"/>
                </a:cubicBezTo>
                <a:cubicBezTo>
                  <a:pt x="7650" y="17154"/>
                  <a:pt x="7670" y="17201"/>
                  <a:pt x="7813" y="17165"/>
                </a:cubicBezTo>
                <a:cubicBezTo>
                  <a:pt x="7887" y="17147"/>
                  <a:pt x="7973" y="17116"/>
                  <a:pt x="8012" y="1709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95320" y="4786200"/>
            <a:ext cx="500040" cy="1401840"/>
          </a:xfrm>
          <a:custGeom>
            <a:avLst/>
            <a:gdLst/>
            <a:ahLst/>
            <a:rect l="l" t="t" r="r" b="b"/>
            <a:pathLst>
              <a:path w="1390" h="3896">
                <a:moveTo>
                  <a:pt x="5085" y="13593"/>
                </a:moveTo>
                <a:cubicBezTo>
                  <a:pt x="5101" y="13527"/>
                  <a:pt x="5145" y="13492"/>
                  <a:pt x="5184" y="13444"/>
                </a:cubicBezTo>
                <a:cubicBezTo>
                  <a:pt x="5242" y="13372"/>
                  <a:pt x="5289" y="13306"/>
                  <a:pt x="5383" y="13295"/>
                </a:cubicBezTo>
                <a:cubicBezTo>
                  <a:pt x="5399" y="13295"/>
                  <a:pt x="5416" y="13295"/>
                  <a:pt x="5432" y="13295"/>
                </a:cubicBezTo>
                <a:cubicBezTo>
                  <a:pt x="5479" y="13451"/>
                  <a:pt x="5420" y="13529"/>
                  <a:pt x="5333" y="13667"/>
                </a:cubicBezTo>
                <a:cubicBezTo>
                  <a:pt x="5232" y="13827"/>
                  <a:pt x="5070" y="13944"/>
                  <a:pt x="4986" y="14114"/>
                </a:cubicBezTo>
                <a:cubicBezTo>
                  <a:pt x="4986" y="14122"/>
                  <a:pt x="4986" y="14131"/>
                  <a:pt x="4986" y="14139"/>
                </a:cubicBezTo>
                <a:cubicBezTo>
                  <a:pt x="4986" y="14068"/>
                  <a:pt x="5025" y="14007"/>
                  <a:pt x="5085" y="13965"/>
                </a:cubicBezTo>
                <a:cubicBezTo>
                  <a:pt x="5129" y="13934"/>
                  <a:pt x="5220" y="13983"/>
                  <a:pt x="5259" y="13990"/>
                </a:cubicBezTo>
                <a:cubicBezTo>
                  <a:pt x="5350" y="14005"/>
                  <a:pt x="5448" y="13973"/>
                  <a:pt x="5531" y="13940"/>
                </a:cubicBezTo>
                <a:cubicBezTo>
                  <a:pt x="5575" y="13918"/>
                  <a:pt x="5586" y="13915"/>
                  <a:pt x="5606" y="13891"/>
                </a:cubicBezTo>
              </a:path>
              <a:path w="1390" h="3896">
                <a:moveTo>
                  <a:pt x="5829" y="13370"/>
                </a:moveTo>
                <a:cubicBezTo>
                  <a:pt x="5696" y="13303"/>
                  <a:pt x="5675" y="13425"/>
                  <a:pt x="5631" y="13543"/>
                </a:cubicBezTo>
                <a:cubicBezTo>
                  <a:pt x="5580" y="13680"/>
                  <a:pt x="5581" y="13774"/>
                  <a:pt x="5581" y="13915"/>
                </a:cubicBezTo>
                <a:cubicBezTo>
                  <a:pt x="5753" y="13950"/>
                  <a:pt x="5837" y="13874"/>
                  <a:pt x="5928" y="13717"/>
                </a:cubicBezTo>
                <a:cubicBezTo>
                  <a:pt x="6024" y="13552"/>
                  <a:pt x="5944" y="13441"/>
                  <a:pt x="5804" y="13345"/>
                </a:cubicBezTo>
                <a:cubicBezTo>
                  <a:pt x="5771" y="13322"/>
                  <a:pt x="5740" y="13304"/>
                  <a:pt x="5705" y="13295"/>
                </a:cubicBezTo>
              </a:path>
              <a:path w="1390" h="3896">
                <a:moveTo>
                  <a:pt x="5035" y="14585"/>
                </a:moveTo>
                <a:cubicBezTo>
                  <a:pt x="5064" y="14513"/>
                  <a:pt x="5179" y="14435"/>
                  <a:pt x="5259" y="14412"/>
                </a:cubicBezTo>
                <a:cubicBezTo>
                  <a:pt x="5284" y="14412"/>
                  <a:pt x="5308" y="14412"/>
                  <a:pt x="5333" y="14412"/>
                </a:cubicBezTo>
                <a:cubicBezTo>
                  <a:pt x="5425" y="14556"/>
                  <a:pt x="5407" y="14751"/>
                  <a:pt x="5308" y="14908"/>
                </a:cubicBezTo>
                <a:cubicBezTo>
                  <a:pt x="5219" y="15048"/>
                  <a:pt x="5075" y="15157"/>
                  <a:pt x="4986" y="15304"/>
                </a:cubicBezTo>
                <a:cubicBezTo>
                  <a:pt x="5001" y="15232"/>
                  <a:pt x="5046" y="15150"/>
                  <a:pt x="5110" y="15106"/>
                </a:cubicBezTo>
                <a:cubicBezTo>
                  <a:pt x="5157" y="15074"/>
                  <a:pt x="5257" y="15129"/>
                  <a:pt x="5308" y="15131"/>
                </a:cubicBezTo>
                <a:cubicBezTo>
                  <a:pt x="5426" y="15136"/>
                  <a:pt x="5522" y="15085"/>
                  <a:pt x="5631" y="15056"/>
                </a:cubicBezTo>
                <a:cubicBezTo>
                  <a:pt x="5639" y="15056"/>
                  <a:pt x="5647" y="15056"/>
                  <a:pt x="5655" y="15056"/>
                </a:cubicBezTo>
              </a:path>
              <a:path w="1390" h="3896">
                <a:moveTo>
                  <a:pt x="5928" y="14511"/>
                </a:moveTo>
                <a:cubicBezTo>
                  <a:pt x="5928" y="14412"/>
                  <a:pt x="5937" y="14660"/>
                  <a:pt x="5928" y="14759"/>
                </a:cubicBezTo>
                <a:cubicBezTo>
                  <a:pt x="5917" y="14878"/>
                  <a:pt x="5904" y="14986"/>
                  <a:pt x="5904" y="15106"/>
                </a:cubicBezTo>
              </a:path>
              <a:path w="1390" h="3896">
                <a:moveTo>
                  <a:pt x="5209" y="15751"/>
                </a:moveTo>
                <a:cubicBezTo>
                  <a:pt x="5226" y="15665"/>
                  <a:pt x="5272" y="15648"/>
                  <a:pt x="5358" y="15627"/>
                </a:cubicBezTo>
                <a:cubicBezTo>
                  <a:pt x="5383" y="15627"/>
                  <a:pt x="5391" y="15627"/>
                  <a:pt x="5407" y="15627"/>
                </a:cubicBezTo>
                <a:cubicBezTo>
                  <a:pt x="5478" y="15744"/>
                  <a:pt x="5411" y="15857"/>
                  <a:pt x="5358" y="15974"/>
                </a:cubicBezTo>
                <a:cubicBezTo>
                  <a:pt x="5311" y="16078"/>
                  <a:pt x="5222" y="16241"/>
                  <a:pt x="5110" y="16297"/>
                </a:cubicBezTo>
                <a:cubicBezTo>
                  <a:pt x="5102" y="16297"/>
                  <a:pt x="5093" y="16297"/>
                  <a:pt x="5085" y="16297"/>
                </a:cubicBezTo>
                <a:cubicBezTo>
                  <a:pt x="5092" y="16219"/>
                  <a:pt x="5082" y="16151"/>
                  <a:pt x="5184" y="16173"/>
                </a:cubicBezTo>
                <a:cubicBezTo>
                  <a:pt x="5259" y="16189"/>
                  <a:pt x="5355" y="16233"/>
                  <a:pt x="5432" y="16222"/>
                </a:cubicBezTo>
                <a:cubicBezTo>
                  <a:pt x="5524" y="16209"/>
                  <a:pt x="5596" y="16158"/>
                  <a:pt x="5680" y="16123"/>
                </a:cubicBezTo>
              </a:path>
              <a:path w="1390" h="3896">
                <a:moveTo>
                  <a:pt x="5854" y="15776"/>
                </a:moveTo>
                <a:cubicBezTo>
                  <a:pt x="5885" y="15682"/>
                  <a:pt x="5957" y="15624"/>
                  <a:pt x="6028" y="15553"/>
                </a:cubicBezTo>
                <a:cubicBezTo>
                  <a:pt x="6080" y="15500"/>
                  <a:pt x="6108" y="15487"/>
                  <a:pt x="6176" y="15528"/>
                </a:cubicBezTo>
                <a:cubicBezTo>
                  <a:pt x="6219" y="15554"/>
                  <a:pt x="6226" y="15582"/>
                  <a:pt x="6226" y="15627"/>
                </a:cubicBezTo>
                <a:cubicBezTo>
                  <a:pt x="6226" y="15747"/>
                  <a:pt x="6125" y="15833"/>
                  <a:pt x="6052" y="15925"/>
                </a:cubicBezTo>
                <a:cubicBezTo>
                  <a:pt x="5996" y="15997"/>
                  <a:pt x="5943" y="16059"/>
                  <a:pt x="5879" y="16123"/>
                </a:cubicBezTo>
                <a:cubicBezTo>
                  <a:pt x="5871" y="16131"/>
                  <a:pt x="5862" y="16140"/>
                  <a:pt x="5854" y="16148"/>
                </a:cubicBezTo>
                <a:cubicBezTo>
                  <a:pt x="5868" y="16065"/>
                  <a:pt x="5889" y="15998"/>
                  <a:pt x="5978" y="15974"/>
                </a:cubicBezTo>
                <a:cubicBezTo>
                  <a:pt x="6049" y="15954"/>
                  <a:pt x="6087" y="16097"/>
                  <a:pt x="6127" y="16123"/>
                </a:cubicBezTo>
                <a:cubicBezTo>
                  <a:pt x="6195" y="16167"/>
                  <a:pt x="6343" y="16129"/>
                  <a:pt x="6375" y="16049"/>
                </a:cubicBezTo>
                <a:cubicBezTo>
                  <a:pt x="6375" y="16032"/>
                  <a:pt x="6375" y="16016"/>
                  <a:pt x="6375" y="15999"/>
                </a:cubicBezTo>
              </a:path>
              <a:path w="1390" h="3896">
                <a:moveTo>
                  <a:pt x="5333" y="16594"/>
                </a:moveTo>
                <a:cubicBezTo>
                  <a:pt x="5333" y="16533"/>
                  <a:pt x="5394" y="16487"/>
                  <a:pt x="5457" y="16470"/>
                </a:cubicBezTo>
                <a:cubicBezTo>
                  <a:pt x="5482" y="16470"/>
                  <a:pt x="5506" y="16470"/>
                  <a:pt x="5531" y="16470"/>
                </a:cubicBezTo>
                <a:cubicBezTo>
                  <a:pt x="5647" y="16634"/>
                  <a:pt x="5596" y="16726"/>
                  <a:pt x="5482" y="16892"/>
                </a:cubicBezTo>
                <a:cubicBezTo>
                  <a:pt x="5398" y="17014"/>
                  <a:pt x="5294" y="17097"/>
                  <a:pt x="5184" y="17190"/>
                </a:cubicBezTo>
                <a:cubicBezTo>
                  <a:pt x="5210" y="17151"/>
                  <a:pt x="5370" y="17153"/>
                  <a:pt x="5432" y="17140"/>
                </a:cubicBezTo>
                <a:cubicBezTo>
                  <a:pt x="5543" y="17117"/>
                  <a:pt x="5641" y="17090"/>
                  <a:pt x="5755" y="17090"/>
                </a:cubicBezTo>
              </a:path>
              <a:path w="1390" h="3896">
                <a:moveTo>
                  <a:pt x="5978" y="16495"/>
                </a:moveTo>
                <a:cubicBezTo>
                  <a:pt x="5978" y="16405"/>
                  <a:pt x="6004" y="16365"/>
                  <a:pt x="6102" y="16346"/>
                </a:cubicBezTo>
                <a:cubicBezTo>
                  <a:pt x="6170" y="16346"/>
                  <a:pt x="6189" y="16343"/>
                  <a:pt x="6226" y="16371"/>
                </a:cubicBezTo>
                <a:cubicBezTo>
                  <a:pt x="6240" y="16535"/>
                  <a:pt x="6158" y="16571"/>
                  <a:pt x="6028" y="16669"/>
                </a:cubicBezTo>
                <a:cubicBezTo>
                  <a:pt x="6020" y="16677"/>
                  <a:pt x="6011" y="16686"/>
                  <a:pt x="6003" y="16694"/>
                </a:cubicBezTo>
                <a:cubicBezTo>
                  <a:pt x="6019" y="16646"/>
                  <a:pt x="6143" y="16627"/>
                  <a:pt x="6201" y="16644"/>
                </a:cubicBezTo>
                <a:cubicBezTo>
                  <a:pt x="6370" y="16695"/>
                  <a:pt x="6285" y="16864"/>
                  <a:pt x="6201" y="16942"/>
                </a:cubicBezTo>
                <a:cubicBezTo>
                  <a:pt x="6095" y="17041"/>
                  <a:pt x="5983" y="17059"/>
                  <a:pt x="5854" y="1701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44960" y="2955960"/>
            <a:ext cx="1116000" cy="642960"/>
          </a:xfrm>
          <a:custGeom>
            <a:avLst/>
            <a:gdLst/>
            <a:ahLst/>
            <a:rect l="l" t="t" r="r" b="b"/>
            <a:pathLst>
              <a:path w="3101" h="1787">
                <a:moveTo>
                  <a:pt x="11237" y="8409"/>
                </a:moveTo>
                <a:cubicBezTo>
                  <a:pt x="11265" y="8458"/>
                  <a:pt x="11277" y="8546"/>
                  <a:pt x="11286" y="8607"/>
                </a:cubicBezTo>
                <a:cubicBezTo>
                  <a:pt x="11296" y="8680"/>
                  <a:pt x="11307" y="8757"/>
                  <a:pt x="11311" y="8830"/>
                </a:cubicBezTo>
                <a:cubicBezTo>
                  <a:pt x="11317" y="8944"/>
                  <a:pt x="11318" y="9046"/>
                  <a:pt x="11336" y="9153"/>
                </a:cubicBezTo>
                <a:cubicBezTo>
                  <a:pt x="11350" y="9235"/>
                  <a:pt x="11346" y="9329"/>
                  <a:pt x="11361" y="9401"/>
                </a:cubicBezTo>
                <a:cubicBezTo>
                  <a:pt x="11374" y="9467"/>
                  <a:pt x="11346" y="9516"/>
                  <a:pt x="11336" y="9575"/>
                </a:cubicBezTo>
                <a:cubicBezTo>
                  <a:pt x="11317" y="9688"/>
                  <a:pt x="11341" y="9825"/>
                  <a:pt x="11361" y="9922"/>
                </a:cubicBezTo>
                <a:cubicBezTo>
                  <a:pt x="11368" y="9954"/>
                  <a:pt x="11361" y="9938"/>
                  <a:pt x="11361" y="9971"/>
                </a:cubicBezTo>
              </a:path>
              <a:path w="3101" h="1787">
                <a:moveTo>
                  <a:pt x="13767" y="8210"/>
                </a:moveTo>
                <a:cubicBezTo>
                  <a:pt x="13751" y="8234"/>
                  <a:pt x="13704" y="8303"/>
                  <a:pt x="13692" y="8359"/>
                </a:cubicBezTo>
                <a:cubicBezTo>
                  <a:pt x="13679" y="8420"/>
                  <a:pt x="13670" y="8470"/>
                  <a:pt x="13667" y="8533"/>
                </a:cubicBezTo>
                <a:cubicBezTo>
                  <a:pt x="13663" y="8616"/>
                  <a:pt x="13657" y="8685"/>
                  <a:pt x="13643" y="8756"/>
                </a:cubicBezTo>
                <a:cubicBezTo>
                  <a:pt x="13628" y="8836"/>
                  <a:pt x="13642" y="8931"/>
                  <a:pt x="13667" y="9004"/>
                </a:cubicBezTo>
                <a:cubicBezTo>
                  <a:pt x="13677" y="9032"/>
                  <a:pt x="13717" y="9102"/>
                  <a:pt x="13717" y="9103"/>
                </a:cubicBezTo>
                <a:cubicBezTo>
                  <a:pt x="13730" y="9151"/>
                  <a:pt x="13699" y="9168"/>
                  <a:pt x="13692" y="9203"/>
                </a:cubicBezTo>
                <a:cubicBezTo>
                  <a:pt x="13672" y="9302"/>
                  <a:pt x="13702" y="9408"/>
                  <a:pt x="13717" y="9500"/>
                </a:cubicBezTo>
                <a:cubicBezTo>
                  <a:pt x="13732" y="9591"/>
                  <a:pt x="13726" y="9692"/>
                  <a:pt x="13742" y="9773"/>
                </a:cubicBezTo>
                <a:cubicBezTo>
                  <a:pt x="13755" y="9837"/>
                  <a:pt x="13746" y="9886"/>
                  <a:pt x="13767" y="9922"/>
                </a:cubicBezTo>
              </a:path>
              <a:path w="3101" h="1787">
                <a:moveTo>
                  <a:pt x="12328" y="9996"/>
                </a:moveTo>
                <a:cubicBezTo>
                  <a:pt x="12460" y="9895"/>
                  <a:pt x="12613" y="9755"/>
                  <a:pt x="12750" y="9649"/>
                </a:cubicBezTo>
                <a:cubicBezTo>
                  <a:pt x="13122" y="9361"/>
                  <a:pt x="13518" y="9129"/>
                  <a:pt x="13915" y="8880"/>
                </a:cubicBezTo>
                <a:cubicBezTo>
                  <a:pt x="13971" y="8845"/>
                  <a:pt x="14324" y="8619"/>
                  <a:pt x="14337" y="8607"/>
                </a:cubicBezTo>
                <a:cubicBezTo>
                  <a:pt x="14309" y="8607"/>
                  <a:pt x="14298" y="8609"/>
                  <a:pt x="14288" y="8632"/>
                </a:cubicBezTo>
              </a:path>
              <a:path w="3101" h="1787">
                <a:moveTo>
                  <a:pt x="13196" y="9847"/>
                </a:moveTo>
                <a:lnTo>
                  <a:pt x="13196" y="9847"/>
                </a:lnTo>
                <a:lnTo>
                  <a:pt x="13196" y="9847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54280" y="5500800"/>
            <a:ext cx="231840" cy="268200"/>
          </a:xfrm>
          <a:custGeom>
            <a:avLst/>
            <a:gdLst/>
            <a:ahLst/>
            <a:rect l="l" t="t" r="r" b="b"/>
            <a:pathLst>
              <a:path w="646" h="745">
                <a:moveTo>
                  <a:pt x="9897" y="15329"/>
                </a:moveTo>
                <a:cubicBezTo>
                  <a:pt x="9919" y="15307"/>
                  <a:pt x="9928" y="15302"/>
                  <a:pt x="9922" y="15280"/>
                </a:cubicBezTo>
                <a:cubicBezTo>
                  <a:pt x="9908" y="15403"/>
                  <a:pt x="9881" y="15527"/>
                  <a:pt x="9872" y="15652"/>
                </a:cubicBezTo>
                <a:cubicBezTo>
                  <a:pt x="9864" y="15759"/>
                  <a:pt x="9890" y="15901"/>
                  <a:pt x="9971" y="15974"/>
                </a:cubicBezTo>
                <a:cubicBezTo>
                  <a:pt x="10075" y="16068"/>
                  <a:pt x="10246" y="15973"/>
                  <a:pt x="10344" y="15900"/>
                </a:cubicBezTo>
                <a:cubicBezTo>
                  <a:pt x="10456" y="15817"/>
                  <a:pt x="10509" y="15724"/>
                  <a:pt x="10492" y="15602"/>
                </a:cubicBezTo>
                <a:cubicBezTo>
                  <a:pt x="10492" y="15594"/>
                  <a:pt x="10492" y="15585"/>
                  <a:pt x="10492" y="15577"/>
                </a:cubicBezTo>
                <a:cubicBezTo>
                  <a:pt x="10415" y="15577"/>
                  <a:pt x="10293" y="15569"/>
                  <a:pt x="10244" y="15652"/>
                </a:cubicBezTo>
                <a:cubicBezTo>
                  <a:pt x="10204" y="15721"/>
                  <a:pt x="10164" y="15932"/>
                  <a:pt x="10220" y="15999"/>
                </a:cubicBezTo>
                <a:cubicBezTo>
                  <a:pt x="10266" y="15999"/>
                  <a:pt x="10286" y="15981"/>
                  <a:pt x="10294" y="1592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00680" y="5446800"/>
            <a:ext cx="206280" cy="295200"/>
          </a:xfrm>
          <a:custGeom>
            <a:avLst/>
            <a:gdLst/>
            <a:ahLst/>
            <a:rect l="l" t="t" r="r" b="b"/>
            <a:pathLst>
              <a:path w="572" h="819">
                <a:moveTo>
                  <a:pt x="11261" y="15329"/>
                </a:moveTo>
                <a:cubicBezTo>
                  <a:pt x="11261" y="15230"/>
                  <a:pt x="11320" y="15193"/>
                  <a:pt x="11410" y="15156"/>
                </a:cubicBezTo>
                <a:cubicBezTo>
                  <a:pt x="11571" y="15090"/>
                  <a:pt x="11665" y="15165"/>
                  <a:pt x="11609" y="15329"/>
                </a:cubicBezTo>
                <a:cubicBezTo>
                  <a:pt x="11578" y="15420"/>
                  <a:pt x="11525" y="15463"/>
                  <a:pt x="11460" y="15528"/>
                </a:cubicBezTo>
                <a:cubicBezTo>
                  <a:pt x="11512" y="15520"/>
                  <a:pt x="11638" y="15461"/>
                  <a:pt x="11683" y="15528"/>
                </a:cubicBezTo>
                <a:cubicBezTo>
                  <a:pt x="11782" y="15676"/>
                  <a:pt x="11448" y="15887"/>
                  <a:pt x="11361" y="15925"/>
                </a:cubicBezTo>
                <a:cubicBezTo>
                  <a:pt x="11237" y="15979"/>
                  <a:pt x="11129" y="15984"/>
                  <a:pt x="11112" y="1585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14960" y="3205080"/>
            <a:ext cx="554040" cy="295200"/>
          </a:xfrm>
          <a:custGeom>
            <a:avLst/>
            <a:gdLst/>
            <a:ahLst/>
            <a:rect l="l" t="t" r="r" b="b"/>
            <a:pathLst>
              <a:path w="1539" h="819">
                <a:moveTo>
                  <a:pt x="14486" y="9723"/>
                </a:moveTo>
                <a:cubicBezTo>
                  <a:pt x="14600" y="9689"/>
                  <a:pt x="14695" y="9610"/>
                  <a:pt x="14808" y="9550"/>
                </a:cubicBezTo>
                <a:cubicBezTo>
                  <a:pt x="15135" y="9376"/>
                  <a:pt x="15443" y="9168"/>
                  <a:pt x="15776" y="9004"/>
                </a:cubicBezTo>
                <a:cubicBezTo>
                  <a:pt x="15861" y="8962"/>
                  <a:pt x="15942" y="8936"/>
                  <a:pt x="16024" y="890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6760" y="3160800"/>
            <a:ext cx="679320" cy="304560"/>
          </a:xfrm>
          <a:custGeom>
            <a:avLst/>
            <a:gdLst/>
            <a:ahLst/>
            <a:rect l="l" t="t" r="r" b="b"/>
            <a:pathLst>
              <a:path w="1886" h="844">
                <a:moveTo>
                  <a:pt x="17016" y="9575"/>
                </a:moveTo>
                <a:cubicBezTo>
                  <a:pt x="17008" y="9583"/>
                  <a:pt x="16999" y="9591"/>
                  <a:pt x="16991" y="9599"/>
                </a:cubicBezTo>
                <a:cubicBezTo>
                  <a:pt x="17067" y="9607"/>
                  <a:pt x="16974" y="9678"/>
                  <a:pt x="17190" y="9575"/>
                </a:cubicBezTo>
                <a:cubicBezTo>
                  <a:pt x="17587" y="9386"/>
                  <a:pt x="17976" y="9181"/>
                  <a:pt x="18380" y="9004"/>
                </a:cubicBezTo>
                <a:cubicBezTo>
                  <a:pt x="18557" y="8927"/>
                  <a:pt x="18669" y="8867"/>
                  <a:pt x="18852" y="880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85000" y="3232080"/>
            <a:ext cx="625320" cy="331920"/>
          </a:xfrm>
          <a:custGeom>
            <a:avLst/>
            <a:gdLst/>
            <a:ahLst/>
            <a:rect l="l" t="t" r="r" b="b"/>
            <a:pathLst>
              <a:path w="1738" h="919">
                <a:moveTo>
                  <a:pt x="19124" y="9897"/>
                </a:moveTo>
                <a:cubicBezTo>
                  <a:pt x="19436" y="9721"/>
                  <a:pt x="19749" y="9542"/>
                  <a:pt x="20067" y="9376"/>
                </a:cubicBezTo>
                <a:cubicBezTo>
                  <a:pt x="20330" y="9239"/>
                  <a:pt x="20607" y="9131"/>
                  <a:pt x="20861" y="897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3268800"/>
            <a:ext cx="1544760" cy="2411280"/>
          </a:xfrm>
          <a:custGeom>
            <a:avLst/>
            <a:gdLst/>
            <a:ahLst/>
            <a:rect l="l" t="t" r="r" b="b"/>
            <a:pathLst>
              <a:path w="4292" h="6698">
                <a:moveTo>
                  <a:pt x="21357" y="9847"/>
                </a:moveTo>
                <a:cubicBezTo>
                  <a:pt x="21514" y="9808"/>
                  <a:pt x="21651" y="9718"/>
                  <a:pt x="21803" y="9649"/>
                </a:cubicBezTo>
                <a:cubicBezTo>
                  <a:pt x="22247" y="9448"/>
                  <a:pt x="22708" y="9285"/>
                  <a:pt x="23168" y="9128"/>
                </a:cubicBezTo>
                <a:cubicBezTo>
                  <a:pt x="23275" y="9093"/>
                  <a:pt x="23280" y="9076"/>
                  <a:pt x="23341" y="9079"/>
                </a:cubicBezTo>
              </a:path>
              <a:path w="4292" h="6698">
                <a:moveTo>
                  <a:pt x="19248" y="12774"/>
                </a:moveTo>
                <a:cubicBezTo>
                  <a:pt x="19248" y="12715"/>
                  <a:pt x="19241" y="12718"/>
                  <a:pt x="19273" y="12675"/>
                </a:cubicBezTo>
                <a:cubicBezTo>
                  <a:pt x="19273" y="12926"/>
                  <a:pt x="19268" y="13171"/>
                  <a:pt x="19248" y="13419"/>
                </a:cubicBezTo>
                <a:cubicBezTo>
                  <a:pt x="19234" y="13591"/>
                  <a:pt x="19308" y="13429"/>
                  <a:pt x="19348" y="13370"/>
                </a:cubicBezTo>
              </a:path>
              <a:path w="4292" h="6698">
                <a:moveTo>
                  <a:pt x="19819" y="12799"/>
                </a:moveTo>
                <a:cubicBezTo>
                  <a:pt x="19819" y="12906"/>
                  <a:pt x="19767" y="13418"/>
                  <a:pt x="19844" y="13444"/>
                </a:cubicBezTo>
              </a:path>
              <a:path w="4292" h="6698">
                <a:moveTo>
                  <a:pt x="20117" y="12824"/>
                </a:moveTo>
                <a:cubicBezTo>
                  <a:pt x="20242" y="12810"/>
                  <a:pt x="20359" y="12799"/>
                  <a:pt x="20489" y="12799"/>
                </a:cubicBezTo>
                <a:cubicBezTo>
                  <a:pt x="20561" y="12799"/>
                  <a:pt x="20645" y="12778"/>
                  <a:pt x="20687" y="12799"/>
                </a:cubicBezTo>
                <a:cubicBezTo>
                  <a:pt x="20667" y="12939"/>
                  <a:pt x="20589" y="13058"/>
                  <a:pt x="20563" y="13196"/>
                </a:cubicBezTo>
                <a:cubicBezTo>
                  <a:pt x="20563" y="13279"/>
                  <a:pt x="20563" y="13295"/>
                  <a:pt x="20563" y="13345"/>
                </a:cubicBezTo>
              </a:path>
              <a:path w="4292" h="6698">
                <a:moveTo>
                  <a:pt x="19124" y="14139"/>
                </a:moveTo>
                <a:cubicBezTo>
                  <a:pt x="19124" y="14047"/>
                  <a:pt x="19138" y="14270"/>
                  <a:pt x="19149" y="14362"/>
                </a:cubicBezTo>
                <a:cubicBezTo>
                  <a:pt x="19162" y="14469"/>
                  <a:pt x="19066" y="14682"/>
                  <a:pt x="19174" y="14684"/>
                </a:cubicBezTo>
                <a:cubicBezTo>
                  <a:pt x="19217" y="14642"/>
                  <a:pt x="19237" y="14611"/>
                  <a:pt x="19248" y="14560"/>
                </a:cubicBezTo>
              </a:path>
              <a:path w="4292" h="6698">
                <a:moveTo>
                  <a:pt x="19893" y="14089"/>
                </a:moveTo>
                <a:cubicBezTo>
                  <a:pt x="19810" y="14047"/>
                  <a:pt x="19760" y="14055"/>
                  <a:pt x="19670" y="14064"/>
                </a:cubicBezTo>
                <a:cubicBezTo>
                  <a:pt x="19620" y="14069"/>
                  <a:pt x="19613" y="14078"/>
                  <a:pt x="19571" y="14089"/>
                </a:cubicBezTo>
                <a:cubicBezTo>
                  <a:pt x="19592" y="14180"/>
                  <a:pt x="19606" y="14270"/>
                  <a:pt x="19621" y="14362"/>
                </a:cubicBezTo>
                <a:cubicBezTo>
                  <a:pt x="19714" y="14362"/>
                  <a:pt x="19778" y="14305"/>
                  <a:pt x="19869" y="14288"/>
                </a:cubicBezTo>
                <a:cubicBezTo>
                  <a:pt x="19983" y="14267"/>
                  <a:pt x="20110" y="14337"/>
                  <a:pt x="20042" y="14461"/>
                </a:cubicBezTo>
                <a:cubicBezTo>
                  <a:pt x="19965" y="14602"/>
                  <a:pt x="19827" y="14652"/>
                  <a:pt x="19720" y="14560"/>
                </a:cubicBezTo>
              </a:path>
              <a:path w="4292" h="6698">
                <a:moveTo>
                  <a:pt x="20439" y="14064"/>
                </a:moveTo>
                <a:cubicBezTo>
                  <a:pt x="20422" y="14056"/>
                  <a:pt x="20406" y="14047"/>
                  <a:pt x="20389" y="14039"/>
                </a:cubicBezTo>
                <a:cubicBezTo>
                  <a:pt x="20503" y="14002"/>
                  <a:pt x="20589" y="13987"/>
                  <a:pt x="20712" y="13965"/>
                </a:cubicBezTo>
                <a:cubicBezTo>
                  <a:pt x="20817" y="13946"/>
                  <a:pt x="20762" y="13946"/>
                  <a:pt x="20836" y="13965"/>
                </a:cubicBezTo>
                <a:cubicBezTo>
                  <a:pt x="20810" y="14095"/>
                  <a:pt x="20712" y="14213"/>
                  <a:pt x="20662" y="14337"/>
                </a:cubicBezTo>
                <a:cubicBezTo>
                  <a:pt x="20623" y="14432"/>
                  <a:pt x="20582" y="14538"/>
                  <a:pt x="20563" y="14635"/>
                </a:cubicBezTo>
              </a:path>
              <a:path w="4292" h="6698">
                <a:moveTo>
                  <a:pt x="19124" y="15404"/>
                </a:moveTo>
                <a:cubicBezTo>
                  <a:pt x="19124" y="15353"/>
                  <a:pt x="19121" y="15327"/>
                  <a:pt x="19149" y="15280"/>
                </a:cubicBezTo>
                <a:cubicBezTo>
                  <a:pt x="19201" y="15193"/>
                  <a:pt x="19322" y="15117"/>
                  <a:pt x="19397" y="15230"/>
                </a:cubicBezTo>
                <a:cubicBezTo>
                  <a:pt x="19483" y="15359"/>
                  <a:pt x="19287" y="15459"/>
                  <a:pt x="19199" y="15503"/>
                </a:cubicBezTo>
                <a:cubicBezTo>
                  <a:pt x="19126" y="15479"/>
                  <a:pt x="19274" y="15435"/>
                  <a:pt x="19348" y="15453"/>
                </a:cubicBezTo>
                <a:cubicBezTo>
                  <a:pt x="19556" y="15504"/>
                  <a:pt x="19415" y="15693"/>
                  <a:pt x="19298" y="15751"/>
                </a:cubicBezTo>
                <a:cubicBezTo>
                  <a:pt x="19116" y="15842"/>
                  <a:pt x="19048" y="15780"/>
                  <a:pt x="19124" y="15627"/>
                </a:cubicBezTo>
              </a:path>
              <a:path w="4292" h="6698">
                <a:moveTo>
                  <a:pt x="19695" y="15205"/>
                </a:moveTo>
                <a:cubicBezTo>
                  <a:pt x="19787" y="15172"/>
                  <a:pt x="19984" y="15094"/>
                  <a:pt x="20017" y="15255"/>
                </a:cubicBezTo>
                <a:cubicBezTo>
                  <a:pt x="20038" y="15360"/>
                  <a:pt x="19880" y="15417"/>
                  <a:pt x="19819" y="15453"/>
                </a:cubicBezTo>
                <a:cubicBezTo>
                  <a:pt x="19778" y="15453"/>
                  <a:pt x="19761" y="15462"/>
                  <a:pt x="19769" y="15429"/>
                </a:cubicBezTo>
                <a:cubicBezTo>
                  <a:pt x="19921" y="15370"/>
                  <a:pt x="19996" y="15396"/>
                  <a:pt x="20092" y="15528"/>
                </a:cubicBezTo>
                <a:cubicBezTo>
                  <a:pt x="20003" y="15718"/>
                  <a:pt x="19929" y="15724"/>
                  <a:pt x="19720" y="15701"/>
                </a:cubicBezTo>
              </a:path>
              <a:path w="4292" h="6698">
                <a:moveTo>
                  <a:pt x="20439" y="15131"/>
                </a:moveTo>
                <a:cubicBezTo>
                  <a:pt x="20412" y="15285"/>
                  <a:pt x="20396" y="15424"/>
                  <a:pt x="20414" y="15577"/>
                </a:cubicBezTo>
                <a:cubicBezTo>
                  <a:pt x="20567" y="15612"/>
                  <a:pt x="20666" y="15598"/>
                  <a:pt x="20786" y="15478"/>
                </a:cubicBezTo>
                <a:cubicBezTo>
                  <a:pt x="20830" y="15413"/>
                  <a:pt x="20851" y="15399"/>
                  <a:pt x="20811" y="15354"/>
                </a:cubicBezTo>
                <a:cubicBezTo>
                  <a:pt x="20700" y="15405"/>
                  <a:pt x="20582" y="15449"/>
                  <a:pt x="20613" y="15602"/>
                </a:cubicBezTo>
                <a:cubicBezTo>
                  <a:pt x="20643" y="15662"/>
                  <a:pt x="20661" y="15672"/>
                  <a:pt x="20712" y="15602"/>
                </a:cubicBezTo>
              </a:path>
              <a:path w="4292" h="6698">
                <a:moveTo>
                  <a:pt x="21109" y="15056"/>
                </a:moveTo>
                <a:cubicBezTo>
                  <a:pt x="21088" y="15200"/>
                  <a:pt x="21062" y="15331"/>
                  <a:pt x="21059" y="15478"/>
                </a:cubicBezTo>
                <a:cubicBezTo>
                  <a:pt x="21059" y="15568"/>
                  <a:pt x="21052" y="15594"/>
                  <a:pt x="21109" y="15627"/>
                </a:cubicBezTo>
                <a:cubicBezTo>
                  <a:pt x="21289" y="15641"/>
                  <a:pt x="21335" y="15567"/>
                  <a:pt x="21406" y="15404"/>
                </a:cubicBezTo>
                <a:cubicBezTo>
                  <a:pt x="21321" y="15318"/>
                  <a:pt x="21252" y="15459"/>
                  <a:pt x="21233" y="15553"/>
                </a:cubicBezTo>
                <a:cubicBezTo>
                  <a:pt x="21208" y="15678"/>
                  <a:pt x="21282" y="15641"/>
                  <a:pt x="21357" y="15627"/>
                </a:cubicBezTo>
              </a:path>
              <a:path w="4292" h="6698">
                <a:moveTo>
                  <a:pt x="21530" y="14932"/>
                </a:moveTo>
                <a:cubicBezTo>
                  <a:pt x="21650" y="14896"/>
                  <a:pt x="21779" y="14849"/>
                  <a:pt x="21903" y="14833"/>
                </a:cubicBezTo>
                <a:cubicBezTo>
                  <a:pt x="22077" y="14810"/>
                  <a:pt x="22005" y="15038"/>
                  <a:pt x="22002" y="15131"/>
                </a:cubicBezTo>
                <a:cubicBezTo>
                  <a:pt x="21998" y="15234"/>
                  <a:pt x="21950" y="15393"/>
                  <a:pt x="22002" y="1547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412120" y="5589720"/>
            <a:ext cx="608040" cy="474480"/>
          </a:xfrm>
          <a:custGeom>
            <a:avLst/>
            <a:gdLst/>
            <a:ahLst/>
            <a:rect l="l" t="t" r="r" b="b"/>
            <a:pathLst>
              <a:path w="1688" h="1315">
                <a:moveTo>
                  <a:pt x="23366" y="16644"/>
                </a:moveTo>
                <a:cubicBezTo>
                  <a:pt x="23415" y="16611"/>
                  <a:pt x="23454" y="16594"/>
                  <a:pt x="23515" y="16594"/>
                </a:cubicBezTo>
                <a:cubicBezTo>
                  <a:pt x="23523" y="16594"/>
                  <a:pt x="23532" y="16594"/>
                  <a:pt x="23540" y="16594"/>
                </a:cubicBezTo>
              </a:path>
              <a:path w="1688" h="1315">
                <a:moveTo>
                  <a:pt x="23366" y="16842"/>
                </a:moveTo>
                <a:cubicBezTo>
                  <a:pt x="23450" y="16812"/>
                  <a:pt x="23532" y="16779"/>
                  <a:pt x="23614" y="16743"/>
                </a:cubicBezTo>
              </a:path>
              <a:path w="1688" h="1315">
                <a:moveTo>
                  <a:pt x="23639" y="15974"/>
                </a:moveTo>
                <a:cubicBezTo>
                  <a:pt x="23796" y="15862"/>
                  <a:pt x="23870" y="15874"/>
                  <a:pt x="24061" y="15925"/>
                </a:cubicBezTo>
                <a:cubicBezTo>
                  <a:pt x="24021" y="16063"/>
                  <a:pt x="24015" y="16222"/>
                  <a:pt x="23937" y="16346"/>
                </a:cubicBezTo>
                <a:cubicBezTo>
                  <a:pt x="23890" y="16393"/>
                  <a:pt x="23878" y="16407"/>
                  <a:pt x="23837" y="16421"/>
                </a:cubicBezTo>
                <a:cubicBezTo>
                  <a:pt x="23791" y="16306"/>
                  <a:pt x="23946" y="16267"/>
                  <a:pt x="24036" y="16222"/>
                </a:cubicBezTo>
              </a:path>
              <a:path w="1688" h="1315">
                <a:moveTo>
                  <a:pt x="23961" y="15900"/>
                </a:moveTo>
                <a:cubicBezTo>
                  <a:pt x="24089" y="15886"/>
                  <a:pt x="24190" y="15867"/>
                  <a:pt x="24309" y="15949"/>
                </a:cubicBezTo>
                <a:cubicBezTo>
                  <a:pt x="24334" y="15974"/>
                  <a:pt x="24358" y="15999"/>
                  <a:pt x="24383" y="16024"/>
                </a:cubicBezTo>
                <a:cubicBezTo>
                  <a:pt x="24338" y="16132"/>
                  <a:pt x="24277" y="16247"/>
                  <a:pt x="24135" y="16247"/>
                </a:cubicBezTo>
                <a:cubicBezTo>
                  <a:pt x="24102" y="16239"/>
                  <a:pt x="24069" y="16230"/>
                  <a:pt x="24036" y="16222"/>
                </a:cubicBezTo>
                <a:cubicBezTo>
                  <a:pt x="24051" y="16078"/>
                  <a:pt x="24100" y="15997"/>
                  <a:pt x="24234" y="15925"/>
                </a:cubicBezTo>
                <a:cubicBezTo>
                  <a:pt x="24312" y="15884"/>
                  <a:pt x="24365" y="15917"/>
                  <a:pt x="24408" y="15949"/>
                </a:cubicBezTo>
                <a:cubicBezTo>
                  <a:pt x="24431" y="15972"/>
                  <a:pt x="24439" y="15983"/>
                  <a:pt x="24433" y="15949"/>
                </a:cubicBezTo>
              </a:path>
              <a:path w="1688" h="1315">
                <a:moveTo>
                  <a:pt x="24482" y="15652"/>
                </a:moveTo>
                <a:cubicBezTo>
                  <a:pt x="24557" y="15602"/>
                  <a:pt x="24685" y="15528"/>
                  <a:pt x="24780" y="15528"/>
                </a:cubicBezTo>
                <a:cubicBezTo>
                  <a:pt x="24796" y="15536"/>
                  <a:pt x="24813" y="15545"/>
                  <a:pt x="24829" y="15553"/>
                </a:cubicBezTo>
                <a:cubicBezTo>
                  <a:pt x="24813" y="15668"/>
                  <a:pt x="24778" y="15752"/>
                  <a:pt x="24681" y="15825"/>
                </a:cubicBezTo>
                <a:cubicBezTo>
                  <a:pt x="24673" y="15825"/>
                  <a:pt x="24664" y="15825"/>
                  <a:pt x="24656" y="15825"/>
                </a:cubicBezTo>
                <a:cubicBezTo>
                  <a:pt x="24808" y="15804"/>
                  <a:pt x="24864" y="15740"/>
                  <a:pt x="25003" y="15850"/>
                </a:cubicBezTo>
                <a:cubicBezTo>
                  <a:pt x="25145" y="15962"/>
                  <a:pt x="25006" y="16080"/>
                  <a:pt x="24879" y="16073"/>
                </a:cubicBezTo>
                <a:cubicBezTo>
                  <a:pt x="24770" y="16067"/>
                  <a:pt x="24726" y="15995"/>
                  <a:pt x="24656" y="15925"/>
                </a:cubicBezTo>
                <a:cubicBezTo>
                  <a:pt x="24648" y="15917"/>
                  <a:pt x="24639" y="15908"/>
                  <a:pt x="24631" y="15900"/>
                </a:cubicBezTo>
              </a:path>
              <a:path w="1688" h="1315">
                <a:moveTo>
                  <a:pt x="24011" y="15850"/>
                </a:moveTo>
                <a:cubicBezTo>
                  <a:pt x="24019" y="15850"/>
                  <a:pt x="24028" y="15850"/>
                  <a:pt x="24036" y="1585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57920" y="3983040"/>
            <a:ext cx="1687320" cy="339840"/>
          </a:xfrm>
          <a:custGeom>
            <a:avLst/>
            <a:gdLst/>
            <a:ahLst/>
            <a:rect l="l" t="t" r="r" b="b"/>
            <a:pathLst>
              <a:path w="4689" h="943">
                <a:moveTo>
                  <a:pt x="16619" y="11237"/>
                </a:moveTo>
                <a:cubicBezTo>
                  <a:pt x="16644" y="11237"/>
                  <a:pt x="16652" y="11237"/>
                  <a:pt x="16669" y="11237"/>
                </a:cubicBezTo>
                <a:cubicBezTo>
                  <a:pt x="16655" y="11138"/>
                  <a:pt x="16601" y="11118"/>
                  <a:pt x="16495" y="11162"/>
                </a:cubicBezTo>
                <a:cubicBezTo>
                  <a:pt x="16405" y="11200"/>
                  <a:pt x="16389" y="11255"/>
                  <a:pt x="16371" y="11336"/>
                </a:cubicBezTo>
                <a:cubicBezTo>
                  <a:pt x="16487" y="11385"/>
                  <a:pt x="16696" y="11377"/>
                  <a:pt x="16743" y="11534"/>
                </a:cubicBezTo>
                <a:cubicBezTo>
                  <a:pt x="16811" y="11765"/>
                  <a:pt x="16610" y="11804"/>
                  <a:pt x="16446" y="11782"/>
                </a:cubicBezTo>
                <a:cubicBezTo>
                  <a:pt x="16270" y="11759"/>
                  <a:pt x="16286" y="11753"/>
                  <a:pt x="16297" y="11609"/>
                </a:cubicBezTo>
              </a:path>
              <a:path w="4689" h="943">
                <a:moveTo>
                  <a:pt x="16917" y="11063"/>
                </a:moveTo>
                <a:cubicBezTo>
                  <a:pt x="16945" y="11244"/>
                  <a:pt x="17001" y="11428"/>
                  <a:pt x="17041" y="11609"/>
                </a:cubicBezTo>
                <a:cubicBezTo>
                  <a:pt x="17057" y="11680"/>
                  <a:pt x="17066" y="11715"/>
                  <a:pt x="17066" y="11782"/>
                </a:cubicBezTo>
              </a:path>
              <a:path w="4689" h="943">
                <a:moveTo>
                  <a:pt x="16669" y="11534"/>
                </a:moveTo>
                <a:cubicBezTo>
                  <a:pt x="16871" y="11505"/>
                  <a:pt x="17020" y="11503"/>
                  <a:pt x="17214" y="11559"/>
                </a:cubicBezTo>
              </a:path>
              <a:path w="4689" h="943">
                <a:moveTo>
                  <a:pt x="17264" y="11633"/>
                </a:moveTo>
                <a:cubicBezTo>
                  <a:pt x="17358" y="11649"/>
                  <a:pt x="17440" y="11663"/>
                  <a:pt x="17487" y="11559"/>
                </a:cubicBezTo>
                <a:cubicBezTo>
                  <a:pt x="17495" y="11534"/>
                  <a:pt x="17504" y="11510"/>
                  <a:pt x="17512" y="11485"/>
                </a:cubicBezTo>
                <a:cubicBezTo>
                  <a:pt x="17388" y="11485"/>
                  <a:pt x="17254" y="11501"/>
                  <a:pt x="17190" y="11633"/>
                </a:cubicBezTo>
                <a:cubicBezTo>
                  <a:pt x="17069" y="11882"/>
                  <a:pt x="17324" y="11868"/>
                  <a:pt x="17462" y="11832"/>
                </a:cubicBezTo>
              </a:path>
              <a:path w="4689" h="943">
                <a:moveTo>
                  <a:pt x="17611" y="11633"/>
                </a:moveTo>
                <a:cubicBezTo>
                  <a:pt x="17619" y="11745"/>
                  <a:pt x="17628" y="11879"/>
                  <a:pt x="17686" y="11981"/>
                </a:cubicBezTo>
                <a:cubicBezTo>
                  <a:pt x="17686" y="11973"/>
                  <a:pt x="17686" y="11964"/>
                  <a:pt x="17686" y="11956"/>
                </a:cubicBezTo>
                <a:cubicBezTo>
                  <a:pt x="17633" y="11836"/>
                  <a:pt x="17539" y="11644"/>
                  <a:pt x="17760" y="11633"/>
                </a:cubicBezTo>
                <a:cubicBezTo>
                  <a:pt x="17910" y="11625"/>
                  <a:pt x="18005" y="11731"/>
                  <a:pt x="18033" y="11857"/>
                </a:cubicBezTo>
                <a:cubicBezTo>
                  <a:pt x="17917" y="11857"/>
                  <a:pt x="17910" y="11768"/>
                  <a:pt x="17959" y="11658"/>
                </a:cubicBezTo>
                <a:cubicBezTo>
                  <a:pt x="18029" y="11565"/>
                  <a:pt x="18046" y="11533"/>
                  <a:pt x="18132" y="11534"/>
                </a:cubicBezTo>
                <a:cubicBezTo>
                  <a:pt x="18284" y="11646"/>
                  <a:pt x="18254" y="11751"/>
                  <a:pt x="18355" y="11881"/>
                </a:cubicBezTo>
                <a:cubicBezTo>
                  <a:pt x="18372" y="11889"/>
                  <a:pt x="18388" y="11898"/>
                  <a:pt x="18405" y="11906"/>
                </a:cubicBezTo>
              </a:path>
              <a:path w="4689" h="943">
                <a:moveTo>
                  <a:pt x="18951" y="11361"/>
                </a:moveTo>
                <a:cubicBezTo>
                  <a:pt x="18974" y="11521"/>
                  <a:pt x="19009" y="11675"/>
                  <a:pt x="19050" y="11832"/>
                </a:cubicBezTo>
                <a:cubicBezTo>
                  <a:pt x="19094" y="11999"/>
                  <a:pt x="19106" y="11981"/>
                  <a:pt x="19273" y="11981"/>
                </a:cubicBezTo>
                <a:cubicBezTo>
                  <a:pt x="19331" y="11981"/>
                  <a:pt x="19339" y="11981"/>
                  <a:pt x="19372" y="11981"/>
                </a:cubicBezTo>
              </a:path>
              <a:path w="4689" h="943">
                <a:moveTo>
                  <a:pt x="19397" y="11857"/>
                </a:moveTo>
                <a:cubicBezTo>
                  <a:pt x="19538" y="11857"/>
                  <a:pt x="19678" y="11857"/>
                  <a:pt x="19819" y="11857"/>
                </a:cubicBezTo>
                <a:cubicBezTo>
                  <a:pt x="19788" y="11780"/>
                  <a:pt x="19737" y="11726"/>
                  <a:pt x="19645" y="11733"/>
                </a:cubicBezTo>
                <a:cubicBezTo>
                  <a:pt x="19539" y="11753"/>
                  <a:pt x="19511" y="11748"/>
                  <a:pt x="19472" y="11807"/>
                </a:cubicBezTo>
                <a:cubicBezTo>
                  <a:pt x="19557" y="12023"/>
                  <a:pt x="19641" y="11997"/>
                  <a:pt x="19869" y="12005"/>
                </a:cubicBezTo>
              </a:path>
              <a:path w="4689" h="943">
                <a:moveTo>
                  <a:pt x="20191" y="11757"/>
                </a:moveTo>
                <a:cubicBezTo>
                  <a:pt x="20000" y="11748"/>
                  <a:pt x="19939" y="11759"/>
                  <a:pt x="19893" y="11956"/>
                </a:cubicBezTo>
                <a:cubicBezTo>
                  <a:pt x="19992" y="12005"/>
                  <a:pt x="20105" y="12056"/>
                  <a:pt x="20141" y="11906"/>
                </a:cubicBezTo>
                <a:cubicBezTo>
                  <a:pt x="20141" y="11848"/>
                  <a:pt x="20141" y="11807"/>
                  <a:pt x="20141" y="11857"/>
                </a:cubicBezTo>
                <a:cubicBezTo>
                  <a:pt x="20304" y="11990"/>
                  <a:pt x="20303" y="11989"/>
                  <a:pt x="20513" y="11981"/>
                </a:cubicBezTo>
              </a:path>
              <a:path w="4689" h="943">
                <a:moveTo>
                  <a:pt x="20811" y="11112"/>
                </a:moveTo>
                <a:cubicBezTo>
                  <a:pt x="20584" y="11100"/>
                  <a:pt x="20531" y="11212"/>
                  <a:pt x="20563" y="11460"/>
                </a:cubicBezTo>
                <a:cubicBezTo>
                  <a:pt x="20577" y="11564"/>
                  <a:pt x="20797" y="11866"/>
                  <a:pt x="20762" y="11956"/>
                </a:cubicBezTo>
                <a:cubicBezTo>
                  <a:pt x="20745" y="11956"/>
                  <a:pt x="20729" y="11956"/>
                  <a:pt x="20712" y="11956"/>
                </a:cubicBezTo>
              </a:path>
              <a:path w="4689" h="943">
                <a:moveTo>
                  <a:pt x="20489" y="11609"/>
                </a:moveTo>
                <a:cubicBezTo>
                  <a:pt x="20648" y="11604"/>
                  <a:pt x="20801" y="11592"/>
                  <a:pt x="20960" y="1158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715160" y="5892840"/>
            <a:ext cx="635040" cy="501480"/>
          </a:xfrm>
          <a:custGeom>
            <a:avLst/>
            <a:gdLst/>
            <a:ahLst/>
            <a:rect l="l" t="t" r="r" b="b"/>
            <a:pathLst>
              <a:path w="1762" h="1390">
                <a:moveTo>
                  <a:pt x="21431" y="17314"/>
                </a:moveTo>
                <a:cubicBezTo>
                  <a:pt x="21472" y="17354"/>
                  <a:pt x="21475" y="17384"/>
                  <a:pt x="21431" y="17438"/>
                </a:cubicBezTo>
              </a:path>
              <a:path w="1762" h="1390">
                <a:moveTo>
                  <a:pt x="21431" y="17735"/>
                </a:moveTo>
                <a:cubicBezTo>
                  <a:pt x="21431" y="17770"/>
                  <a:pt x="21440" y="17774"/>
                  <a:pt x="21481" y="17735"/>
                </a:cubicBezTo>
              </a:path>
              <a:path w="1762" h="1390">
                <a:moveTo>
                  <a:pt x="21927" y="17066"/>
                </a:moveTo>
                <a:cubicBezTo>
                  <a:pt x="21915" y="17102"/>
                  <a:pt x="21903" y="17087"/>
                  <a:pt x="21903" y="17140"/>
                </a:cubicBezTo>
                <a:cubicBezTo>
                  <a:pt x="21892" y="17134"/>
                  <a:pt x="21884" y="17102"/>
                  <a:pt x="21903" y="17066"/>
                </a:cubicBezTo>
                <a:cubicBezTo>
                  <a:pt x="21917" y="17039"/>
                  <a:pt x="21976" y="17019"/>
                  <a:pt x="22002" y="17016"/>
                </a:cubicBezTo>
                <a:cubicBezTo>
                  <a:pt x="22050" y="17011"/>
                  <a:pt x="22102" y="17016"/>
                  <a:pt x="22151" y="17016"/>
                </a:cubicBezTo>
                <a:cubicBezTo>
                  <a:pt x="22151" y="17067"/>
                  <a:pt x="22160" y="17102"/>
                  <a:pt x="22126" y="17140"/>
                </a:cubicBezTo>
                <a:cubicBezTo>
                  <a:pt x="22081" y="17190"/>
                  <a:pt x="22060" y="17209"/>
                  <a:pt x="22027" y="17264"/>
                </a:cubicBezTo>
                <a:cubicBezTo>
                  <a:pt x="21997" y="17315"/>
                  <a:pt x="21950" y="17356"/>
                  <a:pt x="21927" y="17413"/>
                </a:cubicBezTo>
                <a:cubicBezTo>
                  <a:pt x="21900" y="17479"/>
                  <a:pt x="21917" y="17535"/>
                  <a:pt x="21878" y="17587"/>
                </a:cubicBezTo>
                <a:cubicBezTo>
                  <a:pt x="21878" y="17523"/>
                  <a:pt x="21875" y="17517"/>
                  <a:pt x="21927" y="17487"/>
                </a:cubicBezTo>
                <a:cubicBezTo>
                  <a:pt x="22004" y="17443"/>
                  <a:pt x="22028" y="17481"/>
                  <a:pt x="22101" y="17487"/>
                </a:cubicBezTo>
                <a:cubicBezTo>
                  <a:pt x="22177" y="17493"/>
                  <a:pt x="22215" y="17433"/>
                  <a:pt x="22250" y="17413"/>
                </a:cubicBezTo>
                <a:cubicBezTo>
                  <a:pt x="22278" y="17397"/>
                  <a:pt x="22293" y="17402"/>
                  <a:pt x="22250" y="17388"/>
                </a:cubicBezTo>
              </a:path>
              <a:path w="1762" h="1390">
                <a:moveTo>
                  <a:pt x="22374" y="16867"/>
                </a:moveTo>
                <a:cubicBezTo>
                  <a:pt x="22451" y="16867"/>
                  <a:pt x="22428" y="16822"/>
                  <a:pt x="22498" y="16793"/>
                </a:cubicBezTo>
                <a:cubicBezTo>
                  <a:pt x="22564" y="16766"/>
                  <a:pt x="22650" y="16816"/>
                  <a:pt x="22647" y="16892"/>
                </a:cubicBezTo>
                <a:cubicBezTo>
                  <a:pt x="22642" y="17035"/>
                  <a:pt x="22551" y="17135"/>
                  <a:pt x="22473" y="17239"/>
                </a:cubicBezTo>
                <a:cubicBezTo>
                  <a:pt x="22438" y="17285"/>
                  <a:pt x="22393" y="17340"/>
                  <a:pt x="22374" y="17388"/>
                </a:cubicBezTo>
                <a:cubicBezTo>
                  <a:pt x="22408" y="17318"/>
                  <a:pt x="22518" y="17315"/>
                  <a:pt x="22597" y="17289"/>
                </a:cubicBezTo>
                <a:cubicBezTo>
                  <a:pt x="22653" y="17271"/>
                  <a:pt x="22719" y="17245"/>
                  <a:pt x="22771" y="17239"/>
                </a:cubicBezTo>
                <a:cubicBezTo>
                  <a:pt x="22811" y="17235"/>
                  <a:pt x="22806" y="17189"/>
                  <a:pt x="22820" y="17140"/>
                </a:cubicBezTo>
              </a:path>
              <a:path w="1762" h="1390">
                <a:moveTo>
                  <a:pt x="22771" y="16371"/>
                </a:moveTo>
                <a:cubicBezTo>
                  <a:pt x="22814" y="16546"/>
                  <a:pt x="22820" y="16680"/>
                  <a:pt x="22820" y="16867"/>
                </a:cubicBezTo>
                <a:cubicBezTo>
                  <a:pt x="22820" y="17069"/>
                  <a:pt x="22803" y="17293"/>
                  <a:pt x="22820" y="17487"/>
                </a:cubicBezTo>
                <a:cubicBezTo>
                  <a:pt x="22822" y="17514"/>
                  <a:pt x="22870" y="17633"/>
                  <a:pt x="22820" y="17587"/>
                </a:cubicBezTo>
              </a:path>
              <a:path w="1762" h="1390">
                <a:moveTo>
                  <a:pt x="22920" y="16793"/>
                </a:moveTo>
                <a:cubicBezTo>
                  <a:pt x="22931" y="16758"/>
                  <a:pt x="22974" y="16741"/>
                  <a:pt x="23019" y="16718"/>
                </a:cubicBezTo>
                <a:cubicBezTo>
                  <a:pt x="23067" y="16695"/>
                  <a:pt x="23081" y="16687"/>
                  <a:pt x="23118" y="16694"/>
                </a:cubicBezTo>
                <a:cubicBezTo>
                  <a:pt x="23156" y="16744"/>
                  <a:pt x="23162" y="16835"/>
                  <a:pt x="23118" y="16892"/>
                </a:cubicBezTo>
                <a:cubicBezTo>
                  <a:pt x="23088" y="16931"/>
                  <a:pt x="23064" y="16963"/>
                  <a:pt x="23019" y="16942"/>
                </a:cubicBezTo>
                <a:cubicBezTo>
                  <a:pt x="23019" y="16861"/>
                  <a:pt x="23076" y="16858"/>
                  <a:pt x="23143" y="16892"/>
                </a:cubicBezTo>
                <a:cubicBezTo>
                  <a:pt x="23224" y="16932"/>
                  <a:pt x="23179" y="17062"/>
                  <a:pt x="23143" y="17115"/>
                </a:cubicBezTo>
                <a:cubicBezTo>
                  <a:pt x="23115" y="17157"/>
                  <a:pt x="22949" y="17254"/>
                  <a:pt x="22920" y="17165"/>
                </a:cubicBezTo>
                <a:cubicBezTo>
                  <a:pt x="22920" y="17140"/>
                  <a:pt x="22920" y="17115"/>
                  <a:pt x="22920" y="1709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73840" y="4606920"/>
            <a:ext cx="438120" cy="196920"/>
          </a:xfrm>
          <a:custGeom>
            <a:avLst/>
            <a:gdLst/>
            <a:ahLst/>
            <a:rect l="l" t="t" r="r" b="b"/>
            <a:pathLst>
              <a:path w="1217" h="547">
                <a:moveTo>
                  <a:pt x="16768" y="12824"/>
                </a:moveTo>
                <a:cubicBezTo>
                  <a:pt x="16949" y="12794"/>
                  <a:pt x="17156" y="12745"/>
                  <a:pt x="17214" y="12973"/>
                </a:cubicBezTo>
                <a:cubicBezTo>
                  <a:pt x="17281" y="13238"/>
                  <a:pt x="16922" y="13360"/>
                  <a:pt x="16718" y="13345"/>
                </a:cubicBezTo>
                <a:cubicBezTo>
                  <a:pt x="16677" y="13328"/>
                  <a:pt x="16635" y="13312"/>
                  <a:pt x="16594" y="13295"/>
                </a:cubicBezTo>
                <a:cubicBezTo>
                  <a:pt x="16693" y="13084"/>
                  <a:pt x="16827" y="13023"/>
                  <a:pt x="17066" y="13072"/>
                </a:cubicBezTo>
                <a:cubicBezTo>
                  <a:pt x="17180" y="13096"/>
                  <a:pt x="17186" y="13175"/>
                  <a:pt x="17239" y="13246"/>
                </a:cubicBezTo>
              </a:path>
              <a:path w="1217" h="547">
                <a:moveTo>
                  <a:pt x="17537" y="12799"/>
                </a:moveTo>
                <a:cubicBezTo>
                  <a:pt x="17433" y="12868"/>
                  <a:pt x="17338" y="13003"/>
                  <a:pt x="17363" y="13146"/>
                </a:cubicBezTo>
                <a:cubicBezTo>
                  <a:pt x="17404" y="13379"/>
                  <a:pt x="17695" y="13286"/>
                  <a:pt x="17785" y="13146"/>
                </a:cubicBezTo>
                <a:cubicBezTo>
                  <a:pt x="17957" y="12878"/>
                  <a:pt x="17623" y="12862"/>
                  <a:pt x="17462" y="1284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10200" y="5000760"/>
            <a:ext cx="357120" cy="214200"/>
          </a:xfrm>
          <a:custGeom>
            <a:avLst/>
            <a:gdLst/>
            <a:ahLst/>
            <a:rect l="l" t="t" r="r" b="b"/>
            <a:pathLst>
              <a:path w="993" h="596">
                <a:moveTo>
                  <a:pt x="16867" y="14015"/>
                </a:moveTo>
                <a:cubicBezTo>
                  <a:pt x="16938" y="13997"/>
                  <a:pt x="17032" y="13967"/>
                  <a:pt x="17115" y="13990"/>
                </a:cubicBezTo>
                <a:cubicBezTo>
                  <a:pt x="17208" y="14036"/>
                  <a:pt x="17237" y="14047"/>
                  <a:pt x="17264" y="14114"/>
                </a:cubicBezTo>
                <a:cubicBezTo>
                  <a:pt x="17179" y="14297"/>
                  <a:pt x="17076" y="14375"/>
                  <a:pt x="16867" y="14412"/>
                </a:cubicBezTo>
                <a:cubicBezTo>
                  <a:pt x="16754" y="14412"/>
                  <a:pt x="16719" y="14422"/>
                  <a:pt x="16694" y="14337"/>
                </a:cubicBezTo>
                <a:cubicBezTo>
                  <a:pt x="16755" y="14171"/>
                  <a:pt x="16850" y="14015"/>
                  <a:pt x="17066" y="14139"/>
                </a:cubicBezTo>
                <a:cubicBezTo>
                  <a:pt x="17142" y="14183"/>
                  <a:pt x="17246" y="14299"/>
                  <a:pt x="17264" y="14387"/>
                </a:cubicBezTo>
              </a:path>
              <a:path w="993" h="596">
                <a:moveTo>
                  <a:pt x="17487" y="13891"/>
                </a:moveTo>
                <a:cubicBezTo>
                  <a:pt x="17549" y="14060"/>
                  <a:pt x="17558" y="14280"/>
                  <a:pt x="17636" y="14436"/>
                </a:cubicBezTo>
                <a:cubicBezTo>
                  <a:pt x="17653" y="14453"/>
                  <a:pt x="17669" y="14469"/>
                  <a:pt x="17686" y="1448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62760" y="5392800"/>
            <a:ext cx="411120" cy="189000"/>
          </a:xfrm>
          <a:custGeom>
            <a:avLst/>
            <a:gdLst/>
            <a:ahLst/>
            <a:rect l="l" t="t" r="r" b="b"/>
            <a:pathLst>
              <a:path w="1142" h="522">
                <a:moveTo>
                  <a:pt x="16966" y="15081"/>
                </a:moveTo>
                <a:cubicBezTo>
                  <a:pt x="16987" y="15017"/>
                  <a:pt x="17131" y="15026"/>
                  <a:pt x="17190" y="15056"/>
                </a:cubicBezTo>
                <a:cubicBezTo>
                  <a:pt x="17347" y="15137"/>
                  <a:pt x="17453" y="15326"/>
                  <a:pt x="17264" y="15429"/>
                </a:cubicBezTo>
                <a:cubicBezTo>
                  <a:pt x="17124" y="15505"/>
                  <a:pt x="16988" y="15493"/>
                  <a:pt x="16842" y="15478"/>
                </a:cubicBezTo>
                <a:cubicBezTo>
                  <a:pt x="16888" y="15311"/>
                  <a:pt x="17018" y="15304"/>
                  <a:pt x="17190" y="15329"/>
                </a:cubicBezTo>
                <a:cubicBezTo>
                  <a:pt x="17322" y="15349"/>
                  <a:pt x="17268" y="15375"/>
                  <a:pt x="17338" y="15429"/>
                </a:cubicBezTo>
              </a:path>
              <a:path w="1142" h="522">
                <a:moveTo>
                  <a:pt x="17537" y="15032"/>
                </a:moveTo>
                <a:cubicBezTo>
                  <a:pt x="17656" y="14984"/>
                  <a:pt x="17803" y="14978"/>
                  <a:pt x="17909" y="15081"/>
                </a:cubicBezTo>
                <a:cubicBezTo>
                  <a:pt x="18055" y="15223"/>
                  <a:pt x="17999" y="15393"/>
                  <a:pt x="17835" y="15453"/>
                </a:cubicBezTo>
                <a:cubicBezTo>
                  <a:pt x="17696" y="15504"/>
                  <a:pt x="17612" y="15455"/>
                  <a:pt x="17487" y="15404"/>
                </a:cubicBezTo>
                <a:cubicBezTo>
                  <a:pt x="17566" y="15280"/>
                  <a:pt x="17696" y="15231"/>
                  <a:pt x="17859" y="15280"/>
                </a:cubicBezTo>
                <a:cubicBezTo>
                  <a:pt x="17961" y="15310"/>
                  <a:pt x="17953" y="15338"/>
                  <a:pt x="17934" y="1540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45120" y="5742000"/>
            <a:ext cx="482760" cy="241200"/>
          </a:xfrm>
          <a:custGeom>
            <a:avLst/>
            <a:gdLst/>
            <a:ahLst/>
            <a:rect l="l" t="t" r="r" b="b"/>
            <a:pathLst>
              <a:path w="1340" h="671">
                <a:moveTo>
                  <a:pt x="17041" y="16098"/>
                </a:moveTo>
                <a:cubicBezTo>
                  <a:pt x="17093" y="16081"/>
                  <a:pt x="17173" y="16023"/>
                  <a:pt x="17264" y="16049"/>
                </a:cubicBezTo>
                <a:cubicBezTo>
                  <a:pt x="17426" y="16096"/>
                  <a:pt x="17450" y="16276"/>
                  <a:pt x="17363" y="16396"/>
                </a:cubicBezTo>
                <a:cubicBezTo>
                  <a:pt x="17242" y="16564"/>
                  <a:pt x="17040" y="16618"/>
                  <a:pt x="16842" y="16594"/>
                </a:cubicBezTo>
                <a:cubicBezTo>
                  <a:pt x="16826" y="16586"/>
                  <a:pt x="16809" y="16578"/>
                  <a:pt x="16793" y="16570"/>
                </a:cubicBezTo>
                <a:cubicBezTo>
                  <a:pt x="16844" y="16476"/>
                  <a:pt x="16958" y="16370"/>
                  <a:pt x="17090" y="16396"/>
                </a:cubicBezTo>
                <a:cubicBezTo>
                  <a:pt x="17187" y="16415"/>
                  <a:pt x="17249" y="16508"/>
                  <a:pt x="17264" y="16594"/>
                </a:cubicBezTo>
              </a:path>
              <a:path w="1340" h="671">
                <a:moveTo>
                  <a:pt x="17611" y="15999"/>
                </a:moveTo>
                <a:cubicBezTo>
                  <a:pt x="17633" y="15934"/>
                  <a:pt x="17816" y="15942"/>
                  <a:pt x="17884" y="15949"/>
                </a:cubicBezTo>
                <a:cubicBezTo>
                  <a:pt x="17917" y="15957"/>
                  <a:pt x="17950" y="15966"/>
                  <a:pt x="17983" y="15974"/>
                </a:cubicBezTo>
                <a:cubicBezTo>
                  <a:pt x="17999" y="16154"/>
                  <a:pt x="17900" y="16188"/>
                  <a:pt x="17735" y="16247"/>
                </a:cubicBezTo>
                <a:cubicBezTo>
                  <a:pt x="17675" y="16267"/>
                  <a:pt x="17640" y="16266"/>
                  <a:pt x="17686" y="16297"/>
                </a:cubicBezTo>
                <a:cubicBezTo>
                  <a:pt x="17881" y="16253"/>
                  <a:pt x="17957" y="16247"/>
                  <a:pt x="18132" y="16346"/>
                </a:cubicBezTo>
                <a:cubicBezTo>
                  <a:pt x="18097" y="16522"/>
                  <a:pt x="17990" y="16615"/>
                  <a:pt x="17785" y="16619"/>
                </a:cubicBezTo>
                <a:cubicBezTo>
                  <a:pt x="17684" y="16599"/>
                  <a:pt x="17664" y="16601"/>
                  <a:pt x="17611" y="1657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0360" y="5813280"/>
            <a:ext cx="214560" cy="277920"/>
          </a:xfrm>
          <a:custGeom>
            <a:avLst/>
            <a:gdLst/>
            <a:ahLst/>
            <a:rect l="l" t="t" r="r" b="b"/>
            <a:pathLst>
              <a:path w="597" h="770">
                <a:moveTo>
                  <a:pt x="19100" y="16346"/>
                </a:moveTo>
                <a:cubicBezTo>
                  <a:pt x="19100" y="16270"/>
                  <a:pt x="19127" y="16214"/>
                  <a:pt x="19199" y="16173"/>
                </a:cubicBezTo>
                <a:cubicBezTo>
                  <a:pt x="19264" y="16136"/>
                  <a:pt x="19365" y="16141"/>
                  <a:pt x="19372" y="16247"/>
                </a:cubicBezTo>
                <a:cubicBezTo>
                  <a:pt x="19382" y="16386"/>
                  <a:pt x="19273" y="16586"/>
                  <a:pt x="19199" y="16694"/>
                </a:cubicBezTo>
                <a:cubicBezTo>
                  <a:pt x="19161" y="16749"/>
                  <a:pt x="19019" y="16911"/>
                  <a:pt x="19025" y="16917"/>
                </a:cubicBezTo>
                <a:cubicBezTo>
                  <a:pt x="19146" y="16851"/>
                  <a:pt x="19283" y="16794"/>
                  <a:pt x="19422" y="16768"/>
                </a:cubicBezTo>
                <a:cubicBezTo>
                  <a:pt x="19475" y="16758"/>
                  <a:pt x="19543" y="16768"/>
                  <a:pt x="19596" y="1676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23120" y="6224760"/>
            <a:ext cx="392040" cy="339480"/>
          </a:xfrm>
          <a:custGeom>
            <a:avLst/>
            <a:gdLst/>
            <a:ahLst/>
            <a:rect l="l" t="t" r="r" b="b"/>
            <a:pathLst>
              <a:path w="1092" h="943">
                <a:moveTo>
                  <a:pt x="20340" y="17363"/>
                </a:moveTo>
                <a:cubicBezTo>
                  <a:pt x="20340" y="17319"/>
                  <a:pt x="20338" y="17324"/>
                  <a:pt x="20365" y="17289"/>
                </a:cubicBezTo>
                <a:cubicBezTo>
                  <a:pt x="20388" y="17406"/>
                  <a:pt x="20407" y="17538"/>
                  <a:pt x="20414" y="17661"/>
                </a:cubicBezTo>
                <a:cubicBezTo>
                  <a:pt x="20416" y="17689"/>
                  <a:pt x="20392" y="18107"/>
                  <a:pt x="20365" y="17884"/>
                </a:cubicBezTo>
              </a:path>
              <a:path w="1092" h="943">
                <a:moveTo>
                  <a:pt x="20662" y="17363"/>
                </a:moveTo>
                <a:cubicBezTo>
                  <a:pt x="20621" y="17469"/>
                  <a:pt x="20574" y="17730"/>
                  <a:pt x="20414" y="17661"/>
                </a:cubicBezTo>
                <a:cubicBezTo>
                  <a:pt x="20380" y="17627"/>
                  <a:pt x="20372" y="17606"/>
                  <a:pt x="20389" y="17562"/>
                </a:cubicBezTo>
                <a:cubicBezTo>
                  <a:pt x="20528" y="17562"/>
                  <a:pt x="20642" y="17593"/>
                  <a:pt x="20737" y="17711"/>
                </a:cubicBezTo>
                <a:cubicBezTo>
                  <a:pt x="20798" y="17787"/>
                  <a:pt x="20786" y="17848"/>
                  <a:pt x="20786" y="17934"/>
                </a:cubicBezTo>
              </a:path>
              <a:path w="1092" h="943">
                <a:moveTo>
                  <a:pt x="20886" y="17711"/>
                </a:moveTo>
                <a:cubicBezTo>
                  <a:pt x="20964" y="17650"/>
                  <a:pt x="21035" y="17611"/>
                  <a:pt x="21109" y="17537"/>
                </a:cubicBezTo>
                <a:cubicBezTo>
                  <a:pt x="21147" y="17499"/>
                  <a:pt x="21138" y="17500"/>
                  <a:pt x="21109" y="17462"/>
                </a:cubicBezTo>
                <a:cubicBezTo>
                  <a:pt x="20964" y="17450"/>
                  <a:pt x="20914" y="17579"/>
                  <a:pt x="20886" y="17735"/>
                </a:cubicBezTo>
                <a:cubicBezTo>
                  <a:pt x="20861" y="17879"/>
                  <a:pt x="20887" y="17900"/>
                  <a:pt x="20985" y="17959"/>
                </a:cubicBezTo>
                <a:cubicBezTo>
                  <a:pt x="21100" y="17853"/>
                  <a:pt x="21167" y="17744"/>
                  <a:pt x="21208" y="17587"/>
                </a:cubicBezTo>
                <a:cubicBezTo>
                  <a:pt x="21224" y="17526"/>
                  <a:pt x="21187" y="17596"/>
                  <a:pt x="21183" y="17611"/>
                </a:cubicBezTo>
                <a:cubicBezTo>
                  <a:pt x="21185" y="17645"/>
                  <a:pt x="21191" y="17907"/>
                  <a:pt x="21307" y="17835"/>
                </a:cubicBezTo>
                <a:cubicBezTo>
                  <a:pt x="21397" y="17779"/>
                  <a:pt x="21262" y="17583"/>
                  <a:pt x="21357" y="17537"/>
                </a:cubicBezTo>
                <a:cubicBezTo>
                  <a:pt x="21365" y="17545"/>
                  <a:pt x="21374" y="17554"/>
                  <a:pt x="21382" y="17562"/>
                </a:cubicBezTo>
                <a:cubicBezTo>
                  <a:pt x="21412" y="17710"/>
                  <a:pt x="21485" y="17895"/>
                  <a:pt x="21382" y="18033"/>
                </a:cubicBezTo>
                <a:cubicBezTo>
                  <a:pt x="21319" y="18117"/>
                  <a:pt x="21126" y="18269"/>
                  <a:pt x="21010" y="18231"/>
                </a:cubicBezTo>
                <a:cubicBezTo>
                  <a:pt x="20890" y="18191"/>
                  <a:pt x="20984" y="18065"/>
                  <a:pt x="21010" y="1800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31960" y="4554360"/>
            <a:ext cx="1455840" cy="125640"/>
          </a:xfrm>
          <a:custGeom>
            <a:avLst/>
            <a:gdLst/>
            <a:ahLst/>
            <a:rect l="l" t="t" r="r" b="b"/>
            <a:pathLst>
              <a:path w="4044" h="349">
                <a:moveTo>
                  <a:pt x="4812" y="12998"/>
                </a:moveTo>
                <a:cubicBezTo>
                  <a:pt x="4925" y="12991"/>
                  <a:pt x="5023" y="12967"/>
                  <a:pt x="5135" y="12948"/>
                </a:cubicBezTo>
                <a:cubicBezTo>
                  <a:pt x="5510" y="12885"/>
                  <a:pt x="5898" y="12832"/>
                  <a:pt x="6276" y="12799"/>
                </a:cubicBezTo>
                <a:cubicBezTo>
                  <a:pt x="6852" y="12748"/>
                  <a:pt x="7433" y="12692"/>
                  <a:pt x="8012" y="12675"/>
                </a:cubicBezTo>
                <a:cubicBezTo>
                  <a:pt x="8287" y="12667"/>
                  <a:pt x="8557" y="12662"/>
                  <a:pt x="8830" y="12650"/>
                </a:cubicBezTo>
                <a:cubicBezTo>
                  <a:pt x="8838" y="12650"/>
                  <a:pt x="8847" y="12650"/>
                  <a:pt x="8855" y="1265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67000" y="4197240"/>
            <a:ext cx="88920" cy="1911600"/>
          </a:xfrm>
          <a:custGeom>
            <a:avLst/>
            <a:gdLst/>
            <a:ahLst/>
            <a:rect l="l" t="t" r="r" b="b"/>
            <a:pathLst>
              <a:path w="249" h="5309">
                <a:moveTo>
                  <a:pt x="6623" y="11683"/>
                </a:moveTo>
                <a:cubicBezTo>
                  <a:pt x="6644" y="11738"/>
                  <a:pt x="6665" y="11723"/>
                  <a:pt x="6672" y="11782"/>
                </a:cubicBezTo>
                <a:cubicBezTo>
                  <a:pt x="6695" y="11969"/>
                  <a:pt x="6714" y="12165"/>
                  <a:pt x="6722" y="12353"/>
                </a:cubicBezTo>
                <a:cubicBezTo>
                  <a:pt x="6735" y="12644"/>
                  <a:pt x="6711" y="12912"/>
                  <a:pt x="6672" y="13196"/>
                </a:cubicBezTo>
                <a:cubicBezTo>
                  <a:pt x="6628" y="13521"/>
                  <a:pt x="6621" y="13838"/>
                  <a:pt x="6598" y="14163"/>
                </a:cubicBezTo>
                <a:cubicBezTo>
                  <a:pt x="6577" y="14465"/>
                  <a:pt x="6594" y="14730"/>
                  <a:pt x="6623" y="15032"/>
                </a:cubicBezTo>
                <a:cubicBezTo>
                  <a:pt x="6665" y="15460"/>
                  <a:pt x="6742" y="15893"/>
                  <a:pt x="6772" y="16321"/>
                </a:cubicBezTo>
                <a:cubicBezTo>
                  <a:pt x="6783" y="16471"/>
                  <a:pt x="6810" y="16622"/>
                  <a:pt x="6821" y="16768"/>
                </a:cubicBezTo>
                <a:cubicBezTo>
                  <a:pt x="6826" y="16834"/>
                  <a:pt x="6818" y="16900"/>
                  <a:pt x="6821" y="1696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70040" y="3044880"/>
            <a:ext cx="54000" cy="554040"/>
          </a:xfrm>
          <a:custGeom>
            <a:avLst/>
            <a:gdLst/>
            <a:ahLst/>
            <a:rect l="l" t="t" r="r" b="b"/>
            <a:pathLst>
              <a:path w="150" h="1539">
                <a:moveTo>
                  <a:pt x="4663" y="8458"/>
                </a:moveTo>
                <a:cubicBezTo>
                  <a:pt x="4655" y="8458"/>
                  <a:pt x="4646" y="8458"/>
                  <a:pt x="4638" y="8458"/>
                </a:cubicBezTo>
                <a:cubicBezTo>
                  <a:pt x="4638" y="8566"/>
                  <a:pt x="4638" y="8673"/>
                  <a:pt x="4638" y="8781"/>
                </a:cubicBezTo>
                <a:cubicBezTo>
                  <a:pt x="4652" y="8804"/>
                  <a:pt x="4651" y="8810"/>
                  <a:pt x="4663" y="8855"/>
                </a:cubicBezTo>
                <a:cubicBezTo>
                  <a:pt x="4676" y="8903"/>
                  <a:pt x="4675" y="8957"/>
                  <a:pt x="4688" y="9004"/>
                </a:cubicBezTo>
                <a:cubicBezTo>
                  <a:pt x="4699" y="9042"/>
                  <a:pt x="4710" y="9060"/>
                  <a:pt x="4713" y="9103"/>
                </a:cubicBezTo>
                <a:cubicBezTo>
                  <a:pt x="4719" y="9206"/>
                  <a:pt x="4721" y="9311"/>
                  <a:pt x="4738" y="9401"/>
                </a:cubicBezTo>
                <a:cubicBezTo>
                  <a:pt x="4749" y="9462"/>
                  <a:pt x="4722" y="9503"/>
                  <a:pt x="4713" y="9550"/>
                </a:cubicBezTo>
                <a:cubicBezTo>
                  <a:pt x="4707" y="9578"/>
                  <a:pt x="4713" y="9619"/>
                  <a:pt x="4713" y="9649"/>
                </a:cubicBezTo>
                <a:cubicBezTo>
                  <a:pt x="4727" y="9673"/>
                  <a:pt x="4735" y="9671"/>
                  <a:pt x="4738" y="9723"/>
                </a:cubicBezTo>
                <a:cubicBezTo>
                  <a:pt x="4742" y="9794"/>
                  <a:pt x="4751" y="9863"/>
                  <a:pt x="4762" y="9922"/>
                </a:cubicBezTo>
                <a:cubicBezTo>
                  <a:pt x="4771" y="9971"/>
                  <a:pt x="4772" y="9972"/>
                  <a:pt x="4787" y="999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68800" y="3017880"/>
            <a:ext cx="36360" cy="608040"/>
          </a:xfrm>
          <a:custGeom>
            <a:avLst/>
            <a:gdLst/>
            <a:ahLst/>
            <a:rect l="l" t="t" r="r" b="b"/>
            <a:pathLst>
              <a:path w="100" h="1688">
                <a:moveTo>
                  <a:pt x="9103" y="8409"/>
                </a:moveTo>
                <a:cubicBezTo>
                  <a:pt x="9103" y="8469"/>
                  <a:pt x="9086" y="8474"/>
                  <a:pt x="9079" y="8533"/>
                </a:cubicBezTo>
                <a:cubicBezTo>
                  <a:pt x="9070" y="8606"/>
                  <a:pt x="9092" y="8649"/>
                  <a:pt x="9103" y="8706"/>
                </a:cubicBezTo>
                <a:cubicBezTo>
                  <a:pt x="9140" y="8897"/>
                  <a:pt x="9096" y="9112"/>
                  <a:pt x="9128" y="9302"/>
                </a:cubicBezTo>
                <a:cubicBezTo>
                  <a:pt x="9152" y="9447"/>
                  <a:pt x="9130" y="9606"/>
                  <a:pt x="9153" y="9748"/>
                </a:cubicBezTo>
                <a:cubicBezTo>
                  <a:pt x="9164" y="9818"/>
                  <a:pt x="9178" y="9874"/>
                  <a:pt x="9178" y="9947"/>
                </a:cubicBezTo>
                <a:cubicBezTo>
                  <a:pt x="9178" y="9988"/>
                  <a:pt x="9178" y="10030"/>
                  <a:pt x="9178" y="1007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3098880"/>
            <a:ext cx="660600" cy="465120"/>
          </a:xfrm>
          <a:custGeom>
            <a:avLst/>
            <a:gdLst/>
            <a:ahLst/>
            <a:rect l="l" t="t" r="r" b="b"/>
            <a:pathLst>
              <a:path w="1836" h="1291">
                <a:moveTo>
                  <a:pt x="5432" y="8607"/>
                </a:moveTo>
                <a:cubicBezTo>
                  <a:pt x="5216" y="8680"/>
                  <a:pt x="4928" y="8965"/>
                  <a:pt x="4738" y="9103"/>
                </a:cubicBezTo>
                <a:cubicBezTo>
                  <a:pt x="4368" y="9372"/>
                  <a:pt x="4015" y="9668"/>
                  <a:pt x="3621" y="9897"/>
                </a:cubicBezTo>
                <a:cubicBezTo>
                  <a:pt x="3613" y="9897"/>
                  <a:pt x="3605" y="9897"/>
                  <a:pt x="3597" y="989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86040" y="3054240"/>
            <a:ext cx="615960" cy="527040"/>
          </a:xfrm>
          <a:custGeom>
            <a:avLst/>
            <a:gdLst/>
            <a:ahLst/>
            <a:rect l="l" t="t" r="r" b="b"/>
            <a:pathLst>
              <a:path w="1713" h="1465">
                <a:moveTo>
                  <a:pt x="9451" y="8483"/>
                </a:moveTo>
                <a:cubicBezTo>
                  <a:pt x="9412" y="8515"/>
                  <a:pt x="9352" y="8579"/>
                  <a:pt x="9302" y="8632"/>
                </a:cubicBezTo>
                <a:cubicBezTo>
                  <a:pt x="9018" y="8933"/>
                  <a:pt x="8694" y="9203"/>
                  <a:pt x="8384" y="9475"/>
                </a:cubicBezTo>
                <a:cubicBezTo>
                  <a:pt x="8236" y="9605"/>
                  <a:pt x="7950" y="9891"/>
                  <a:pt x="7739" y="9947"/>
                </a:cubicBezTo>
                <a:cubicBezTo>
                  <a:pt x="7705" y="9956"/>
                  <a:pt x="7779" y="9907"/>
                  <a:pt x="7813" y="989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47960" y="5500800"/>
            <a:ext cx="196920" cy="233280"/>
          </a:xfrm>
          <a:custGeom>
            <a:avLst/>
            <a:gdLst/>
            <a:ahLst/>
            <a:rect l="l" t="t" r="r" b="b"/>
            <a:pathLst>
              <a:path w="546" h="646">
                <a:moveTo>
                  <a:pt x="7938" y="15304"/>
                </a:moveTo>
                <a:cubicBezTo>
                  <a:pt x="7855" y="15304"/>
                  <a:pt x="8053" y="15304"/>
                  <a:pt x="8136" y="15304"/>
                </a:cubicBezTo>
                <a:cubicBezTo>
                  <a:pt x="8250" y="15304"/>
                  <a:pt x="8351" y="15301"/>
                  <a:pt x="8458" y="15280"/>
                </a:cubicBezTo>
                <a:cubicBezTo>
                  <a:pt x="8433" y="15432"/>
                  <a:pt x="8338" y="15581"/>
                  <a:pt x="8285" y="15726"/>
                </a:cubicBezTo>
                <a:cubicBezTo>
                  <a:pt x="8246" y="15841"/>
                  <a:pt x="8230" y="15855"/>
                  <a:pt x="8235" y="1592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06840" y="3143160"/>
            <a:ext cx="600120" cy="374760"/>
          </a:xfrm>
          <a:custGeom>
            <a:avLst/>
            <a:gdLst/>
            <a:ahLst/>
            <a:rect l="l" t="t" r="r" b="b"/>
            <a:pathLst>
              <a:path w="1663" h="1043">
                <a:moveTo>
                  <a:pt x="10021" y="9748"/>
                </a:moveTo>
                <a:cubicBezTo>
                  <a:pt x="10086" y="9774"/>
                  <a:pt x="10151" y="9733"/>
                  <a:pt x="10269" y="9649"/>
                </a:cubicBezTo>
                <a:cubicBezTo>
                  <a:pt x="10606" y="9411"/>
                  <a:pt x="10936" y="9196"/>
                  <a:pt x="11286" y="8979"/>
                </a:cubicBezTo>
                <a:cubicBezTo>
                  <a:pt x="11412" y="8901"/>
                  <a:pt x="11565" y="8807"/>
                  <a:pt x="11683" y="873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52880" y="5510160"/>
            <a:ext cx="204840" cy="258840"/>
          </a:xfrm>
          <a:custGeom>
            <a:avLst/>
            <a:gdLst/>
            <a:ahLst/>
            <a:rect l="l" t="t" r="r" b="b"/>
            <a:pathLst>
              <a:path w="572" h="721">
                <a:moveTo>
                  <a:pt x="8880" y="15304"/>
                </a:moveTo>
                <a:cubicBezTo>
                  <a:pt x="8825" y="15448"/>
                  <a:pt x="8745" y="15567"/>
                  <a:pt x="8756" y="15726"/>
                </a:cubicBezTo>
                <a:cubicBezTo>
                  <a:pt x="8763" y="15828"/>
                  <a:pt x="8788" y="16024"/>
                  <a:pt x="8930" y="16024"/>
                </a:cubicBezTo>
                <a:cubicBezTo>
                  <a:pt x="9095" y="16024"/>
                  <a:pt x="9208" y="15849"/>
                  <a:pt x="9277" y="15726"/>
                </a:cubicBezTo>
                <a:cubicBezTo>
                  <a:pt x="9321" y="15638"/>
                  <a:pt x="9338" y="15617"/>
                  <a:pt x="9327" y="15553"/>
                </a:cubicBezTo>
                <a:cubicBezTo>
                  <a:pt x="9265" y="15459"/>
                  <a:pt x="9142" y="15544"/>
                  <a:pt x="9079" y="15627"/>
                </a:cubicBezTo>
                <a:cubicBezTo>
                  <a:pt x="8999" y="15732"/>
                  <a:pt x="8974" y="15865"/>
                  <a:pt x="9029" y="1597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660760" y="4973760"/>
            <a:ext cx="27000" cy="9360"/>
          </a:xfrm>
          <a:custGeom>
            <a:avLst/>
            <a:gdLst/>
            <a:ahLst/>
            <a:rect l="l" t="t" r="r" b="b"/>
            <a:pathLst>
              <a:path w="75" h="26">
                <a:moveTo>
                  <a:pt x="7392" y="13841"/>
                </a:moveTo>
                <a:cubicBezTo>
                  <a:pt x="7427" y="13841"/>
                  <a:pt x="7444" y="13836"/>
                  <a:pt x="7466" y="1381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70120" y="4732200"/>
            <a:ext cx="160560" cy="304920"/>
          </a:xfrm>
          <a:custGeom>
            <a:avLst/>
            <a:gdLst/>
            <a:ahLst/>
            <a:rect l="l" t="t" r="r" b="b"/>
            <a:pathLst>
              <a:path w="447" h="845">
                <a:moveTo>
                  <a:pt x="7441" y="13246"/>
                </a:moveTo>
                <a:cubicBezTo>
                  <a:pt x="7400" y="13181"/>
                  <a:pt x="7561" y="13229"/>
                  <a:pt x="7615" y="13221"/>
                </a:cubicBezTo>
                <a:cubicBezTo>
                  <a:pt x="7701" y="13209"/>
                  <a:pt x="7784" y="13178"/>
                  <a:pt x="7863" y="13146"/>
                </a:cubicBezTo>
                <a:cubicBezTo>
                  <a:pt x="7835" y="13316"/>
                  <a:pt x="7695" y="13515"/>
                  <a:pt x="7615" y="13667"/>
                </a:cubicBezTo>
                <a:cubicBezTo>
                  <a:pt x="7600" y="13696"/>
                  <a:pt x="7404" y="13961"/>
                  <a:pt x="7491" y="1399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76680" y="5133960"/>
            <a:ext cx="215640" cy="260280"/>
          </a:xfrm>
          <a:custGeom>
            <a:avLst/>
            <a:gdLst/>
            <a:ahLst/>
            <a:rect l="l" t="t" r="r" b="b"/>
            <a:pathLst>
              <a:path w="597" h="720">
                <a:moveTo>
                  <a:pt x="8235" y="14288"/>
                </a:moveTo>
                <a:cubicBezTo>
                  <a:pt x="8213" y="14350"/>
                  <a:pt x="8044" y="14268"/>
                  <a:pt x="7987" y="14263"/>
                </a:cubicBezTo>
                <a:cubicBezTo>
                  <a:pt x="7888" y="14263"/>
                  <a:pt x="7871" y="14263"/>
                  <a:pt x="7813" y="14263"/>
                </a:cubicBezTo>
                <a:cubicBezTo>
                  <a:pt x="7779" y="14367"/>
                  <a:pt x="7789" y="14473"/>
                  <a:pt x="7789" y="14585"/>
                </a:cubicBezTo>
                <a:cubicBezTo>
                  <a:pt x="7789" y="14610"/>
                  <a:pt x="7789" y="14635"/>
                  <a:pt x="7789" y="14660"/>
                </a:cubicBezTo>
                <a:cubicBezTo>
                  <a:pt x="7894" y="14660"/>
                  <a:pt x="7952" y="14558"/>
                  <a:pt x="8062" y="14536"/>
                </a:cubicBezTo>
                <a:cubicBezTo>
                  <a:pt x="8179" y="14536"/>
                  <a:pt x="8213" y="14534"/>
                  <a:pt x="8285" y="14560"/>
                </a:cubicBezTo>
                <a:cubicBezTo>
                  <a:pt x="8285" y="14754"/>
                  <a:pt x="8168" y="14883"/>
                  <a:pt x="7962" y="14957"/>
                </a:cubicBezTo>
                <a:cubicBezTo>
                  <a:pt x="7829" y="14979"/>
                  <a:pt x="7795" y="14992"/>
                  <a:pt x="7714" y="1495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33800" y="5072040"/>
            <a:ext cx="189000" cy="258840"/>
          </a:xfrm>
          <a:custGeom>
            <a:avLst/>
            <a:gdLst/>
            <a:ahLst/>
            <a:rect l="l" t="t" r="r" b="b"/>
            <a:pathLst>
              <a:path w="522" h="720">
                <a:moveTo>
                  <a:pt x="8706" y="14213"/>
                </a:moveTo>
                <a:cubicBezTo>
                  <a:pt x="8724" y="14142"/>
                  <a:pt x="8801" y="14145"/>
                  <a:pt x="8880" y="14139"/>
                </a:cubicBezTo>
                <a:cubicBezTo>
                  <a:pt x="8985" y="14132"/>
                  <a:pt x="9164" y="14136"/>
                  <a:pt x="9227" y="14089"/>
                </a:cubicBezTo>
                <a:cubicBezTo>
                  <a:pt x="9227" y="14220"/>
                  <a:pt x="9213" y="14304"/>
                  <a:pt x="9178" y="14436"/>
                </a:cubicBezTo>
                <a:cubicBezTo>
                  <a:pt x="9157" y="14514"/>
                  <a:pt x="9095" y="14725"/>
                  <a:pt x="9029" y="14784"/>
                </a:cubicBezTo>
                <a:cubicBezTo>
                  <a:pt x="9012" y="14792"/>
                  <a:pt x="8996" y="14800"/>
                  <a:pt x="8979" y="1480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87680" y="3724200"/>
            <a:ext cx="634680" cy="411120"/>
          </a:xfrm>
          <a:custGeom>
            <a:avLst/>
            <a:gdLst/>
            <a:ahLst/>
            <a:rect l="l" t="t" r="r" b="b"/>
            <a:pathLst>
              <a:path w="1762" h="1142">
                <a:moveTo>
                  <a:pt x="4688" y="11485"/>
                </a:moveTo>
                <a:cubicBezTo>
                  <a:pt x="4702" y="11376"/>
                  <a:pt x="4727" y="11346"/>
                  <a:pt x="4837" y="11261"/>
                </a:cubicBezTo>
                <a:cubicBezTo>
                  <a:pt x="5246" y="10945"/>
                  <a:pt x="5726" y="10719"/>
                  <a:pt x="6176" y="10468"/>
                </a:cubicBezTo>
                <a:cubicBezTo>
                  <a:pt x="6316" y="10390"/>
                  <a:pt x="6332" y="10387"/>
                  <a:pt x="6449" y="1034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09960" y="4705200"/>
            <a:ext cx="27000" cy="304920"/>
          </a:xfrm>
          <a:custGeom>
            <a:avLst/>
            <a:gdLst/>
            <a:ahLst/>
            <a:rect l="l" t="t" r="r" b="b"/>
            <a:pathLst>
              <a:path w="76" h="844">
                <a:moveTo>
                  <a:pt x="8409" y="13097"/>
                </a:moveTo>
                <a:cubicBezTo>
                  <a:pt x="8409" y="13068"/>
                  <a:pt x="8437" y="13518"/>
                  <a:pt x="8434" y="13568"/>
                </a:cubicBezTo>
                <a:cubicBezTo>
                  <a:pt x="8427" y="13686"/>
                  <a:pt x="8502" y="13906"/>
                  <a:pt x="8384" y="13915"/>
                </a:cubicBezTo>
                <a:cubicBezTo>
                  <a:pt x="8384" y="13849"/>
                  <a:pt x="8377" y="13799"/>
                  <a:pt x="8359" y="1374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81160" y="3259080"/>
            <a:ext cx="704880" cy="465120"/>
          </a:xfrm>
          <a:custGeom>
            <a:avLst/>
            <a:gdLst/>
            <a:ahLst/>
            <a:rect l="l" t="t" r="r" b="b"/>
            <a:pathLst>
              <a:path w="1961" h="1291">
                <a:moveTo>
                  <a:pt x="5804" y="10344"/>
                </a:moveTo>
                <a:cubicBezTo>
                  <a:pt x="5932" y="10241"/>
                  <a:pt x="6016" y="10162"/>
                  <a:pt x="6152" y="10071"/>
                </a:cubicBezTo>
                <a:cubicBezTo>
                  <a:pt x="6573" y="9789"/>
                  <a:pt x="6977" y="9453"/>
                  <a:pt x="7417" y="9203"/>
                </a:cubicBezTo>
                <a:cubicBezTo>
                  <a:pt x="7511" y="9150"/>
                  <a:pt x="7646" y="9100"/>
                  <a:pt x="7739" y="905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11280" y="3660840"/>
            <a:ext cx="517680" cy="268200"/>
          </a:xfrm>
          <a:custGeom>
            <a:avLst/>
            <a:gdLst/>
            <a:ahLst/>
            <a:rect l="l" t="t" r="r" b="b"/>
            <a:pathLst>
              <a:path w="1440" h="745">
                <a:moveTo>
                  <a:pt x="6747" y="10790"/>
                </a:moveTo>
                <a:cubicBezTo>
                  <a:pt x="6726" y="10837"/>
                  <a:pt x="6718" y="10867"/>
                  <a:pt x="6697" y="10914"/>
                </a:cubicBezTo>
                <a:cubicBezTo>
                  <a:pt x="6987" y="10791"/>
                  <a:pt x="7222" y="10581"/>
                  <a:pt x="7491" y="10418"/>
                </a:cubicBezTo>
                <a:cubicBezTo>
                  <a:pt x="7687" y="10300"/>
                  <a:pt x="7892" y="10218"/>
                  <a:pt x="8111" y="10170"/>
                </a:cubicBezTo>
                <a:cubicBezTo>
                  <a:pt x="8119" y="10170"/>
                  <a:pt x="8128" y="10170"/>
                  <a:pt x="8136" y="1017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84920" y="4394160"/>
            <a:ext cx="1625400" cy="27000"/>
          </a:xfrm>
          <a:custGeom>
            <a:avLst/>
            <a:gdLst/>
            <a:ahLst/>
            <a:rect l="l" t="t" r="r" b="b"/>
            <a:pathLst>
              <a:path w="4516" h="75">
                <a:moveTo>
                  <a:pt x="16346" y="12204"/>
                </a:moveTo>
                <a:cubicBezTo>
                  <a:pt x="16364" y="12215"/>
                  <a:pt x="16376" y="12246"/>
                  <a:pt x="16421" y="12254"/>
                </a:cubicBezTo>
                <a:cubicBezTo>
                  <a:pt x="16549" y="12276"/>
                  <a:pt x="16713" y="12211"/>
                  <a:pt x="16842" y="12204"/>
                </a:cubicBezTo>
                <a:cubicBezTo>
                  <a:pt x="17070" y="12191"/>
                  <a:pt x="17310" y="12210"/>
                  <a:pt x="17537" y="12229"/>
                </a:cubicBezTo>
                <a:cubicBezTo>
                  <a:pt x="17811" y="12252"/>
                  <a:pt x="18081" y="12239"/>
                  <a:pt x="18355" y="12254"/>
                </a:cubicBezTo>
                <a:cubicBezTo>
                  <a:pt x="18630" y="12269"/>
                  <a:pt x="18897" y="12254"/>
                  <a:pt x="19174" y="12254"/>
                </a:cubicBezTo>
                <a:cubicBezTo>
                  <a:pt x="19409" y="12254"/>
                  <a:pt x="19636" y="12261"/>
                  <a:pt x="19869" y="12254"/>
                </a:cubicBezTo>
                <a:cubicBezTo>
                  <a:pt x="20118" y="12247"/>
                  <a:pt x="20365" y="12243"/>
                  <a:pt x="20613" y="12229"/>
                </a:cubicBezTo>
                <a:cubicBezTo>
                  <a:pt x="20703" y="12224"/>
                  <a:pt x="20803" y="12210"/>
                  <a:pt x="20861" y="1220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688080" y="3867120"/>
            <a:ext cx="54000" cy="2249640"/>
          </a:xfrm>
          <a:custGeom>
            <a:avLst/>
            <a:gdLst/>
            <a:ahLst/>
            <a:rect l="l" t="t" r="r" b="b"/>
            <a:pathLst>
              <a:path w="150" h="6252">
                <a:moveTo>
                  <a:pt x="18604" y="10740"/>
                </a:moveTo>
                <a:cubicBezTo>
                  <a:pt x="18635" y="10794"/>
                  <a:pt x="18641" y="10705"/>
                  <a:pt x="18678" y="10840"/>
                </a:cubicBezTo>
                <a:cubicBezTo>
                  <a:pt x="18700" y="10920"/>
                  <a:pt x="18701" y="11004"/>
                  <a:pt x="18703" y="11088"/>
                </a:cubicBezTo>
                <a:cubicBezTo>
                  <a:pt x="18705" y="11201"/>
                  <a:pt x="18680" y="11299"/>
                  <a:pt x="18678" y="11410"/>
                </a:cubicBezTo>
                <a:cubicBezTo>
                  <a:pt x="18676" y="11527"/>
                  <a:pt x="18659" y="11648"/>
                  <a:pt x="18653" y="11757"/>
                </a:cubicBezTo>
                <a:cubicBezTo>
                  <a:pt x="18646" y="11872"/>
                  <a:pt x="18634" y="11994"/>
                  <a:pt x="18628" y="12105"/>
                </a:cubicBezTo>
                <a:cubicBezTo>
                  <a:pt x="18622" y="12222"/>
                  <a:pt x="18613" y="12337"/>
                  <a:pt x="18604" y="12452"/>
                </a:cubicBezTo>
                <a:cubicBezTo>
                  <a:pt x="18594" y="12586"/>
                  <a:pt x="18572" y="12769"/>
                  <a:pt x="18579" y="12898"/>
                </a:cubicBezTo>
                <a:cubicBezTo>
                  <a:pt x="18587" y="13046"/>
                  <a:pt x="18604" y="13193"/>
                  <a:pt x="18604" y="13345"/>
                </a:cubicBezTo>
                <a:cubicBezTo>
                  <a:pt x="18604" y="13743"/>
                  <a:pt x="18599" y="14141"/>
                  <a:pt x="18628" y="14536"/>
                </a:cubicBezTo>
                <a:cubicBezTo>
                  <a:pt x="18637" y="14660"/>
                  <a:pt x="18640" y="14785"/>
                  <a:pt x="18653" y="14908"/>
                </a:cubicBezTo>
                <a:cubicBezTo>
                  <a:pt x="18664" y="15016"/>
                  <a:pt x="18678" y="15118"/>
                  <a:pt x="18678" y="15230"/>
                </a:cubicBezTo>
                <a:cubicBezTo>
                  <a:pt x="18678" y="15661"/>
                  <a:pt x="18674" y="16095"/>
                  <a:pt x="18703" y="16520"/>
                </a:cubicBezTo>
                <a:cubicBezTo>
                  <a:pt x="18709" y="16603"/>
                  <a:pt x="18675" y="16755"/>
                  <a:pt x="18678" y="16793"/>
                </a:cubicBezTo>
                <a:cubicBezTo>
                  <a:pt x="18681" y="16833"/>
                  <a:pt x="18700" y="16813"/>
                  <a:pt x="18703" y="16867"/>
                </a:cubicBezTo>
                <a:cubicBezTo>
                  <a:pt x="18706" y="16922"/>
                  <a:pt x="18719" y="16969"/>
                  <a:pt x="18728" y="16991"/>
                </a:cubicBezTo>
                <a:cubicBezTo>
                  <a:pt x="18728" y="16983"/>
                  <a:pt x="18728" y="16974"/>
                  <a:pt x="18728" y="1696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ive:  Students will identify the probability of an event as a decimal, fraction and perc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desk drawer contains 6 black pens, 5 blue pens, 4 red pens, and 5 green pe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ex picks one pen from the drawer without look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probability Alex picks a blue pen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express as a decimal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13000" y="3911760"/>
            <a:ext cx="204840" cy="187200"/>
          </a:xfrm>
          <a:custGeom>
            <a:avLst/>
            <a:gdLst/>
            <a:ahLst/>
            <a:rect l="l" t="t" r="r" b="b"/>
            <a:pathLst>
              <a:path w="572" h="522">
                <a:moveTo>
                  <a:pt x="6796" y="10864"/>
                </a:moveTo>
                <a:cubicBezTo>
                  <a:pt x="6713" y="10892"/>
                  <a:pt x="6638" y="10889"/>
                  <a:pt x="6548" y="10889"/>
                </a:cubicBezTo>
                <a:cubicBezTo>
                  <a:pt x="6478" y="10889"/>
                  <a:pt x="6504" y="10840"/>
                  <a:pt x="6474" y="10939"/>
                </a:cubicBezTo>
                <a:cubicBezTo>
                  <a:pt x="6455" y="11002"/>
                  <a:pt x="6435" y="11073"/>
                  <a:pt x="6424" y="11137"/>
                </a:cubicBezTo>
                <a:cubicBezTo>
                  <a:pt x="6514" y="11137"/>
                  <a:pt x="6561" y="11063"/>
                  <a:pt x="6648" y="11038"/>
                </a:cubicBezTo>
                <a:cubicBezTo>
                  <a:pt x="6759" y="11006"/>
                  <a:pt x="7035" y="10955"/>
                  <a:pt x="6995" y="11162"/>
                </a:cubicBezTo>
                <a:cubicBezTo>
                  <a:pt x="6957" y="11359"/>
                  <a:pt x="6772" y="11448"/>
                  <a:pt x="6598" y="11336"/>
                </a:cubicBezTo>
                <a:cubicBezTo>
                  <a:pt x="6581" y="11311"/>
                  <a:pt x="6565" y="11286"/>
                  <a:pt x="6548" y="1126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05040" y="3830760"/>
            <a:ext cx="679680" cy="268200"/>
          </a:xfrm>
          <a:custGeom>
            <a:avLst/>
            <a:gdLst/>
            <a:ahLst/>
            <a:rect l="l" t="t" r="r" b="b"/>
            <a:pathLst>
              <a:path w="1886" h="745">
                <a:moveTo>
                  <a:pt x="7516" y="10641"/>
                </a:moveTo>
                <a:cubicBezTo>
                  <a:pt x="7547" y="10797"/>
                  <a:pt x="7594" y="10953"/>
                  <a:pt x="7615" y="11112"/>
                </a:cubicBezTo>
                <a:cubicBezTo>
                  <a:pt x="7615" y="11129"/>
                  <a:pt x="7615" y="11145"/>
                  <a:pt x="7615" y="11162"/>
                </a:cubicBezTo>
                <a:cubicBezTo>
                  <a:pt x="7632" y="11059"/>
                  <a:pt x="7648" y="10955"/>
                  <a:pt x="7739" y="10889"/>
                </a:cubicBezTo>
                <a:cubicBezTo>
                  <a:pt x="7764" y="10881"/>
                  <a:pt x="7788" y="10872"/>
                  <a:pt x="7813" y="10864"/>
                </a:cubicBezTo>
                <a:cubicBezTo>
                  <a:pt x="7891" y="11019"/>
                  <a:pt x="7917" y="11153"/>
                  <a:pt x="7764" y="11286"/>
                </a:cubicBezTo>
                <a:cubicBezTo>
                  <a:pt x="7666" y="11372"/>
                  <a:pt x="7622" y="11341"/>
                  <a:pt x="7541" y="11286"/>
                </a:cubicBezTo>
              </a:path>
              <a:path w="1886" h="745">
                <a:moveTo>
                  <a:pt x="7987" y="10716"/>
                </a:moveTo>
                <a:cubicBezTo>
                  <a:pt x="8020" y="10923"/>
                  <a:pt x="8042" y="11129"/>
                  <a:pt x="8062" y="11336"/>
                </a:cubicBezTo>
                <a:cubicBezTo>
                  <a:pt x="8062" y="11352"/>
                  <a:pt x="8062" y="11369"/>
                  <a:pt x="8062" y="11385"/>
                </a:cubicBezTo>
              </a:path>
              <a:path w="1886" h="745">
                <a:moveTo>
                  <a:pt x="8260" y="11137"/>
                </a:moveTo>
                <a:cubicBezTo>
                  <a:pt x="8332" y="11106"/>
                  <a:pt x="8535" y="11062"/>
                  <a:pt x="8558" y="10964"/>
                </a:cubicBezTo>
                <a:cubicBezTo>
                  <a:pt x="8550" y="10956"/>
                  <a:pt x="8541" y="10947"/>
                  <a:pt x="8533" y="10939"/>
                </a:cubicBezTo>
                <a:cubicBezTo>
                  <a:pt x="8419" y="10896"/>
                  <a:pt x="8340" y="10946"/>
                  <a:pt x="8285" y="11063"/>
                </a:cubicBezTo>
                <a:cubicBezTo>
                  <a:pt x="8260" y="11162"/>
                  <a:pt x="8252" y="11195"/>
                  <a:pt x="8285" y="11261"/>
                </a:cubicBezTo>
                <a:cubicBezTo>
                  <a:pt x="8403" y="11289"/>
                  <a:pt x="8459" y="11281"/>
                  <a:pt x="8582" y="11261"/>
                </a:cubicBezTo>
              </a:path>
              <a:path w="1886" h="745">
                <a:moveTo>
                  <a:pt x="8384" y="10964"/>
                </a:moveTo>
                <a:cubicBezTo>
                  <a:pt x="8360" y="11082"/>
                  <a:pt x="8322" y="11140"/>
                  <a:pt x="8359" y="11261"/>
                </a:cubicBezTo>
                <a:cubicBezTo>
                  <a:pt x="8483" y="11261"/>
                  <a:pt x="8594" y="11260"/>
                  <a:pt x="8632" y="11112"/>
                </a:cubicBezTo>
                <a:cubicBezTo>
                  <a:pt x="8632" y="11013"/>
                  <a:pt x="8632" y="10997"/>
                  <a:pt x="8632" y="10939"/>
                </a:cubicBezTo>
                <a:cubicBezTo>
                  <a:pt x="8632" y="10881"/>
                  <a:pt x="8653" y="11078"/>
                  <a:pt x="8657" y="11088"/>
                </a:cubicBezTo>
                <a:cubicBezTo>
                  <a:pt x="8691" y="11176"/>
                  <a:pt x="8788" y="11371"/>
                  <a:pt x="8830" y="11286"/>
                </a:cubicBezTo>
                <a:cubicBezTo>
                  <a:pt x="8830" y="11261"/>
                  <a:pt x="8830" y="11237"/>
                  <a:pt x="8830" y="11212"/>
                </a:cubicBezTo>
              </a:path>
              <a:path w="1886" h="745">
                <a:moveTo>
                  <a:pt x="8830" y="11088"/>
                </a:moveTo>
                <a:cubicBezTo>
                  <a:pt x="8909" y="11088"/>
                  <a:pt x="8982" y="11061"/>
                  <a:pt x="9054" y="11038"/>
                </a:cubicBezTo>
                <a:cubicBezTo>
                  <a:pt x="9070" y="11030"/>
                  <a:pt x="9087" y="11021"/>
                  <a:pt x="9103" y="11013"/>
                </a:cubicBezTo>
                <a:cubicBezTo>
                  <a:pt x="9081" y="10957"/>
                  <a:pt x="9006" y="10896"/>
                  <a:pt x="8930" y="10939"/>
                </a:cubicBezTo>
                <a:cubicBezTo>
                  <a:pt x="8822" y="11001"/>
                  <a:pt x="8765" y="11207"/>
                  <a:pt x="8905" y="11261"/>
                </a:cubicBezTo>
                <a:cubicBezTo>
                  <a:pt x="9072" y="11325"/>
                  <a:pt x="9240" y="11252"/>
                  <a:pt x="9401" y="1121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571920" y="4098960"/>
            <a:ext cx="108000" cy="81000"/>
          </a:xfrm>
          <a:custGeom>
            <a:avLst/>
            <a:gdLst/>
            <a:ahLst/>
            <a:rect l="l" t="t" r="r" b="b"/>
            <a:pathLst>
              <a:path w="299" h="225">
                <a:moveTo>
                  <a:pt x="9922" y="11385"/>
                </a:moveTo>
                <a:cubicBezTo>
                  <a:pt x="10031" y="11399"/>
                  <a:pt x="10108" y="11392"/>
                  <a:pt x="10220" y="11385"/>
                </a:cubicBezTo>
              </a:path>
              <a:path w="299" h="225">
                <a:moveTo>
                  <a:pt x="9922" y="11609"/>
                </a:moveTo>
                <a:cubicBezTo>
                  <a:pt x="10045" y="11584"/>
                  <a:pt x="10086" y="11576"/>
                  <a:pt x="10145" y="1150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87880" y="3875040"/>
            <a:ext cx="723960" cy="546120"/>
          </a:xfrm>
          <a:custGeom>
            <a:avLst/>
            <a:gdLst/>
            <a:ahLst/>
            <a:rect l="l" t="t" r="r" b="b"/>
            <a:pathLst>
              <a:path w="2011" h="1514">
                <a:moveTo>
                  <a:pt x="11981" y="10765"/>
                </a:moveTo>
                <a:cubicBezTo>
                  <a:pt x="11990" y="10972"/>
                  <a:pt x="12005" y="11177"/>
                  <a:pt x="12005" y="11385"/>
                </a:cubicBezTo>
                <a:cubicBezTo>
                  <a:pt x="12005" y="11427"/>
                  <a:pt x="12005" y="11452"/>
                  <a:pt x="12005" y="11410"/>
                </a:cubicBezTo>
              </a:path>
              <a:path w="2011" h="1514">
                <a:moveTo>
                  <a:pt x="11633" y="11410"/>
                </a:moveTo>
                <a:cubicBezTo>
                  <a:pt x="11867" y="11375"/>
                  <a:pt x="12114" y="11354"/>
                  <a:pt x="12353" y="11336"/>
                </a:cubicBezTo>
                <a:cubicBezTo>
                  <a:pt x="12427" y="11336"/>
                  <a:pt x="12436" y="11336"/>
                  <a:pt x="12477" y="11336"/>
                </a:cubicBezTo>
              </a:path>
              <a:path w="2011" h="1514">
                <a:moveTo>
                  <a:pt x="11832" y="11733"/>
                </a:moveTo>
                <a:cubicBezTo>
                  <a:pt x="11814" y="11819"/>
                  <a:pt x="11757" y="11894"/>
                  <a:pt x="11733" y="11981"/>
                </a:cubicBezTo>
                <a:cubicBezTo>
                  <a:pt x="11733" y="11989"/>
                  <a:pt x="11733" y="11997"/>
                  <a:pt x="11733" y="12005"/>
                </a:cubicBezTo>
                <a:cubicBezTo>
                  <a:pt x="11893" y="11995"/>
                  <a:pt x="12027" y="11957"/>
                  <a:pt x="12179" y="11906"/>
                </a:cubicBezTo>
              </a:path>
              <a:path w="2011" h="1514">
                <a:moveTo>
                  <a:pt x="12129" y="11683"/>
                </a:moveTo>
                <a:cubicBezTo>
                  <a:pt x="12120" y="11870"/>
                  <a:pt x="12081" y="12045"/>
                  <a:pt x="12055" y="12229"/>
                </a:cubicBezTo>
                <a:cubicBezTo>
                  <a:pt x="12055" y="12245"/>
                  <a:pt x="12055" y="12262"/>
                  <a:pt x="12055" y="12278"/>
                </a:cubicBezTo>
              </a:path>
              <a:path w="2011" h="1514">
                <a:moveTo>
                  <a:pt x="12650" y="11733"/>
                </a:moveTo>
                <a:cubicBezTo>
                  <a:pt x="12679" y="11690"/>
                  <a:pt x="12780" y="11686"/>
                  <a:pt x="12849" y="11683"/>
                </a:cubicBezTo>
                <a:cubicBezTo>
                  <a:pt x="12865" y="11683"/>
                  <a:pt x="12882" y="11683"/>
                  <a:pt x="12898" y="11683"/>
                </a:cubicBezTo>
              </a:path>
              <a:path w="2011" h="1514">
                <a:moveTo>
                  <a:pt x="12551" y="11881"/>
                </a:moveTo>
                <a:cubicBezTo>
                  <a:pt x="12646" y="11876"/>
                  <a:pt x="12731" y="11866"/>
                  <a:pt x="12824" y="11857"/>
                </a:cubicBezTo>
              </a:path>
              <a:path w="2011" h="1514">
                <a:moveTo>
                  <a:pt x="13022" y="11460"/>
                </a:moveTo>
                <a:cubicBezTo>
                  <a:pt x="12889" y="11460"/>
                  <a:pt x="12794" y="11531"/>
                  <a:pt x="12725" y="11658"/>
                </a:cubicBezTo>
                <a:cubicBezTo>
                  <a:pt x="12681" y="11789"/>
                  <a:pt x="12665" y="11819"/>
                  <a:pt x="12675" y="11906"/>
                </a:cubicBezTo>
                <a:cubicBezTo>
                  <a:pt x="12880" y="11933"/>
                  <a:pt x="13012" y="11898"/>
                  <a:pt x="13122" y="11708"/>
                </a:cubicBezTo>
                <a:cubicBezTo>
                  <a:pt x="13211" y="11555"/>
                  <a:pt x="13135" y="11397"/>
                  <a:pt x="12948" y="11410"/>
                </a:cubicBezTo>
                <a:cubicBezTo>
                  <a:pt x="12948" y="11418"/>
                  <a:pt x="12948" y="11427"/>
                  <a:pt x="12948" y="11435"/>
                </a:cubicBezTo>
              </a:path>
              <a:path w="2011" h="1514">
                <a:moveTo>
                  <a:pt x="13345" y="11460"/>
                </a:moveTo>
                <a:cubicBezTo>
                  <a:pt x="13382" y="11578"/>
                  <a:pt x="13410" y="11662"/>
                  <a:pt x="13419" y="11782"/>
                </a:cubicBezTo>
                <a:cubicBezTo>
                  <a:pt x="13419" y="11668"/>
                  <a:pt x="13392" y="11665"/>
                  <a:pt x="13444" y="11534"/>
                </a:cubicBezTo>
                <a:cubicBezTo>
                  <a:pt x="13487" y="11426"/>
                  <a:pt x="13552" y="11374"/>
                  <a:pt x="13643" y="1131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28800" y="3946680"/>
            <a:ext cx="411120" cy="554040"/>
          </a:xfrm>
          <a:custGeom>
            <a:avLst/>
            <a:gdLst/>
            <a:ahLst/>
            <a:rect l="l" t="t" r="r" b="b"/>
            <a:pathLst>
              <a:path w="1142" h="1539">
                <a:moveTo>
                  <a:pt x="3448" y="10964"/>
                </a:moveTo>
                <a:cubicBezTo>
                  <a:pt x="3347" y="10983"/>
                  <a:pt x="3318" y="10994"/>
                  <a:pt x="3225" y="10964"/>
                </a:cubicBezTo>
                <a:cubicBezTo>
                  <a:pt x="3202" y="11075"/>
                  <a:pt x="3142" y="11177"/>
                  <a:pt x="3101" y="11286"/>
                </a:cubicBezTo>
                <a:cubicBezTo>
                  <a:pt x="3220" y="11226"/>
                  <a:pt x="3325" y="11161"/>
                  <a:pt x="3448" y="11261"/>
                </a:cubicBezTo>
                <a:cubicBezTo>
                  <a:pt x="3571" y="11361"/>
                  <a:pt x="3471" y="11541"/>
                  <a:pt x="3349" y="11584"/>
                </a:cubicBezTo>
                <a:cubicBezTo>
                  <a:pt x="3265" y="11614"/>
                  <a:pt x="3154" y="11558"/>
                  <a:pt x="3076" y="11534"/>
                </a:cubicBezTo>
              </a:path>
              <a:path w="1142" h="1539">
                <a:moveTo>
                  <a:pt x="2753" y="11832"/>
                </a:moveTo>
                <a:cubicBezTo>
                  <a:pt x="2753" y="11943"/>
                  <a:pt x="2738" y="12045"/>
                  <a:pt x="2729" y="12154"/>
                </a:cubicBezTo>
                <a:cubicBezTo>
                  <a:pt x="2729" y="12179"/>
                  <a:pt x="2729" y="12204"/>
                  <a:pt x="2729" y="12229"/>
                </a:cubicBezTo>
              </a:path>
              <a:path w="1142" h="1539">
                <a:moveTo>
                  <a:pt x="2580" y="12030"/>
                </a:moveTo>
                <a:cubicBezTo>
                  <a:pt x="2646" y="12003"/>
                  <a:pt x="2842" y="11911"/>
                  <a:pt x="2902" y="11931"/>
                </a:cubicBezTo>
                <a:cubicBezTo>
                  <a:pt x="2902" y="11939"/>
                  <a:pt x="2902" y="11948"/>
                  <a:pt x="2902" y="11956"/>
                </a:cubicBezTo>
              </a:path>
              <a:path w="1142" h="1539">
                <a:moveTo>
                  <a:pt x="3299" y="11658"/>
                </a:moveTo>
                <a:cubicBezTo>
                  <a:pt x="3276" y="11728"/>
                  <a:pt x="3225" y="11880"/>
                  <a:pt x="3200" y="11981"/>
                </a:cubicBezTo>
                <a:cubicBezTo>
                  <a:pt x="3160" y="12146"/>
                  <a:pt x="3180" y="12275"/>
                  <a:pt x="3373" y="12229"/>
                </a:cubicBezTo>
                <a:cubicBezTo>
                  <a:pt x="3552" y="12186"/>
                  <a:pt x="3650" y="12060"/>
                  <a:pt x="3721" y="11906"/>
                </a:cubicBezTo>
                <a:cubicBezTo>
                  <a:pt x="3618" y="11923"/>
                  <a:pt x="3541" y="11979"/>
                  <a:pt x="3497" y="12080"/>
                </a:cubicBezTo>
                <a:cubicBezTo>
                  <a:pt x="3479" y="12154"/>
                  <a:pt x="3471" y="12161"/>
                  <a:pt x="3473" y="12204"/>
                </a:cubicBezTo>
              </a:path>
              <a:path w="1142" h="1539">
                <a:moveTo>
                  <a:pt x="2927" y="12502"/>
                </a:moveTo>
                <a:cubicBezTo>
                  <a:pt x="3161" y="12453"/>
                  <a:pt x="3381" y="12408"/>
                  <a:pt x="3621" y="12402"/>
                </a:cubicBezTo>
                <a:cubicBezTo>
                  <a:pt x="3646" y="12402"/>
                  <a:pt x="3671" y="12402"/>
                  <a:pt x="3696" y="1240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89080" y="4473720"/>
            <a:ext cx="384120" cy="187200"/>
          </a:xfrm>
          <a:custGeom>
            <a:avLst/>
            <a:gdLst/>
            <a:ahLst/>
            <a:rect l="l" t="t" r="r" b="b"/>
            <a:pathLst>
              <a:path w="1068" h="522">
                <a:moveTo>
                  <a:pt x="6077" y="12551"/>
                </a:moveTo>
                <a:cubicBezTo>
                  <a:pt x="6035" y="12551"/>
                  <a:pt x="6019" y="12553"/>
                  <a:pt x="6052" y="12526"/>
                </a:cubicBezTo>
                <a:cubicBezTo>
                  <a:pt x="6132" y="12462"/>
                  <a:pt x="6166" y="12442"/>
                  <a:pt x="6251" y="12452"/>
                </a:cubicBezTo>
                <a:cubicBezTo>
                  <a:pt x="6274" y="12656"/>
                  <a:pt x="6251" y="12808"/>
                  <a:pt x="6052" y="12923"/>
                </a:cubicBezTo>
                <a:cubicBezTo>
                  <a:pt x="5947" y="12984"/>
                  <a:pt x="5883" y="12929"/>
                  <a:pt x="5804" y="12874"/>
                </a:cubicBezTo>
                <a:cubicBezTo>
                  <a:pt x="5897" y="12704"/>
                  <a:pt x="6014" y="12740"/>
                  <a:pt x="6201" y="12774"/>
                </a:cubicBezTo>
                <a:cubicBezTo>
                  <a:pt x="6333" y="12798"/>
                  <a:pt x="6304" y="12835"/>
                  <a:pt x="6424" y="12824"/>
                </a:cubicBezTo>
              </a:path>
              <a:path w="1068" h="522">
                <a:moveTo>
                  <a:pt x="6573" y="12626"/>
                </a:moveTo>
                <a:cubicBezTo>
                  <a:pt x="6528" y="12771"/>
                  <a:pt x="6501" y="12778"/>
                  <a:pt x="6573" y="12898"/>
                </a:cubicBezTo>
                <a:cubicBezTo>
                  <a:pt x="6694" y="12847"/>
                  <a:pt x="6904" y="12753"/>
                  <a:pt x="6871" y="12576"/>
                </a:cubicBezTo>
                <a:cubicBezTo>
                  <a:pt x="6866" y="12549"/>
                  <a:pt x="6723" y="12535"/>
                  <a:pt x="6697" y="1252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705040" y="4446720"/>
            <a:ext cx="581040" cy="304560"/>
          </a:xfrm>
          <a:custGeom>
            <a:avLst/>
            <a:gdLst/>
            <a:ahLst/>
            <a:rect l="l" t="t" r="r" b="b"/>
            <a:pathLst>
              <a:path w="1613" h="844">
                <a:moveTo>
                  <a:pt x="7590" y="12725"/>
                </a:moveTo>
                <a:cubicBezTo>
                  <a:pt x="7614" y="12884"/>
                  <a:pt x="7640" y="13035"/>
                  <a:pt x="7640" y="13196"/>
                </a:cubicBezTo>
              </a:path>
              <a:path w="1613" h="844">
                <a:moveTo>
                  <a:pt x="7565" y="12502"/>
                </a:moveTo>
                <a:cubicBezTo>
                  <a:pt x="7722" y="12570"/>
                  <a:pt x="7775" y="12582"/>
                  <a:pt x="7863" y="12725"/>
                </a:cubicBezTo>
                <a:cubicBezTo>
                  <a:pt x="7734" y="12824"/>
                  <a:pt x="7677" y="12837"/>
                  <a:pt x="7516" y="12799"/>
                </a:cubicBezTo>
              </a:path>
              <a:path w="1613" h="844">
                <a:moveTo>
                  <a:pt x="8012" y="12502"/>
                </a:moveTo>
                <a:cubicBezTo>
                  <a:pt x="8055" y="12437"/>
                  <a:pt x="8067" y="12423"/>
                  <a:pt x="8086" y="12378"/>
                </a:cubicBezTo>
                <a:cubicBezTo>
                  <a:pt x="7999" y="12397"/>
                  <a:pt x="7856" y="12477"/>
                  <a:pt x="7913" y="12601"/>
                </a:cubicBezTo>
                <a:cubicBezTo>
                  <a:pt x="8006" y="12802"/>
                  <a:pt x="8222" y="12645"/>
                  <a:pt x="8334" y="12576"/>
                </a:cubicBezTo>
              </a:path>
              <a:path w="1613" h="844">
                <a:moveTo>
                  <a:pt x="8334" y="12502"/>
                </a:moveTo>
                <a:cubicBezTo>
                  <a:pt x="8310" y="12575"/>
                  <a:pt x="8302" y="12598"/>
                  <a:pt x="8310" y="12650"/>
                </a:cubicBezTo>
                <a:cubicBezTo>
                  <a:pt x="8310" y="12712"/>
                  <a:pt x="8331" y="12532"/>
                  <a:pt x="8334" y="12526"/>
                </a:cubicBezTo>
                <a:cubicBezTo>
                  <a:pt x="8392" y="12403"/>
                  <a:pt x="8492" y="12298"/>
                  <a:pt x="8582" y="12452"/>
                </a:cubicBezTo>
                <a:cubicBezTo>
                  <a:pt x="8615" y="12508"/>
                  <a:pt x="8623" y="12589"/>
                  <a:pt x="8632" y="12650"/>
                </a:cubicBezTo>
              </a:path>
              <a:path w="1613" h="844">
                <a:moveTo>
                  <a:pt x="8855" y="12353"/>
                </a:moveTo>
                <a:cubicBezTo>
                  <a:pt x="8755" y="12414"/>
                  <a:pt x="8959" y="12435"/>
                  <a:pt x="9029" y="12477"/>
                </a:cubicBezTo>
                <a:cubicBezTo>
                  <a:pt x="9108" y="12536"/>
                  <a:pt x="9141" y="12536"/>
                  <a:pt x="9128" y="12601"/>
                </a:cubicBezTo>
                <a:cubicBezTo>
                  <a:pt x="9015" y="12777"/>
                  <a:pt x="8933" y="12730"/>
                  <a:pt x="8756" y="1265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03160" y="4572000"/>
            <a:ext cx="455760" cy="1339920"/>
          </a:xfrm>
          <a:custGeom>
            <a:avLst/>
            <a:gdLst/>
            <a:ahLst/>
            <a:rect l="l" t="t" r="r" b="b"/>
            <a:pathLst>
              <a:path w="1266" h="3722">
                <a:moveTo>
                  <a:pt x="2853" y="12824"/>
                </a:moveTo>
                <a:cubicBezTo>
                  <a:pt x="2853" y="12943"/>
                  <a:pt x="2833" y="13053"/>
                  <a:pt x="2828" y="13171"/>
                </a:cubicBezTo>
                <a:cubicBezTo>
                  <a:pt x="2828" y="13223"/>
                  <a:pt x="2829" y="13238"/>
                  <a:pt x="2853" y="13171"/>
                </a:cubicBezTo>
              </a:path>
              <a:path w="1266" h="3722">
                <a:moveTo>
                  <a:pt x="3448" y="12700"/>
                </a:moveTo>
                <a:cubicBezTo>
                  <a:pt x="3423" y="12839"/>
                  <a:pt x="3366" y="12977"/>
                  <a:pt x="3349" y="13122"/>
                </a:cubicBezTo>
                <a:cubicBezTo>
                  <a:pt x="3349" y="13180"/>
                  <a:pt x="3365" y="13204"/>
                  <a:pt x="3324" y="13196"/>
                </a:cubicBezTo>
              </a:path>
              <a:path w="1266" h="3722">
                <a:moveTo>
                  <a:pt x="2580" y="13667"/>
                </a:moveTo>
                <a:cubicBezTo>
                  <a:pt x="2580" y="13779"/>
                  <a:pt x="2570" y="13880"/>
                  <a:pt x="2555" y="13990"/>
                </a:cubicBezTo>
                <a:cubicBezTo>
                  <a:pt x="2555" y="13998"/>
                  <a:pt x="2555" y="14007"/>
                  <a:pt x="2555" y="14015"/>
                </a:cubicBezTo>
              </a:path>
              <a:path w="1266" h="3722">
                <a:moveTo>
                  <a:pt x="2505" y="13841"/>
                </a:moveTo>
                <a:cubicBezTo>
                  <a:pt x="2622" y="13796"/>
                  <a:pt x="2731" y="13739"/>
                  <a:pt x="2853" y="13717"/>
                </a:cubicBezTo>
              </a:path>
              <a:path w="1266" h="3722">
                <a:moveTo>
                  <a:pt x="3175" y="13543"/>
                </a:moveTo>
                <a:cubicBezTo>
                  <a:pt x="3161" y="13597"/>
                  <a:pt x="3090" y="13676"/>
                  <a:pt x="3125" y="13742"/>
                </a:cubicBezTo>
                <a:cubicBezTo>
                  <a:pt x="3180" y="13845"/>
                  <a:pt x="3415" y="13717"/>
                  <a:pt x="3473" y="13692"/>
                </a:cubicBezTo>
              </a:path>
              <a:path w="1266" h="3722">
                <a:moveTo>
                  <a:pt x="3497" y="13370"/>
                </a:moveTo>
                <a:cubicBezTo>
                  <a:pt x="3452" y="13569"/>
                  <a:pt x="3449" y="13797"/>
                  <a:pt x="3398" y="13990"/>
                </a:cubicBezTo>
                <a:cubicBezTo>
                  <a:pt x="3390" y="13998"/>
                  <a:pt x="3381" y="14007"/>
                  <a:pt x="3373" y="14015"/>
                </a:cubicBezTo>
              </a:path>
              <a:path w="1266" h="3722">
                <a:moveTo>
                  <a:pt x="2505" y="14536"/>
                </a:moveTo>
                <a:cubicBezTo>
                  <a:pt x="2458" y="14466"/>
                  <a:pt x="2852" y="14423"/>
                  <a:pt x="2902" y="14412"/>
                </a:cubicBezTo>
                <a:cubicBezTo>
                  <a:pt x="3070" y="14376"/>
                  <a:pt x="3228" y="14348"/>
                  <a:pt x="3398" y="14337"/>
                </a:cubicBezTo>
              </a:path>
              <a:path w="1266" h="3722">
                <a:moveTo>
                  <a:pt x="2629" y="14808"/>
                </a:moveTo>
                <a:cubicBezTo>
                  <a:pt x="2629" y="14918"/>
                  <a:pt x="2618" y="15048"/>
                  <a:pt x="2604" y="15156"/>
                </a:cubicBezTo>
                <a:cubicBezTo>
                  <a:pt x="2590" y="15260"/>
                  <a:pt x="2538" y="15307"/>
                  <a:pt x="2629" y="15230"/>
                </a:cubicBezTo>
              </a:path>
              <a:path w="1266" h="3722">
                <a:moveTo>
                  <a:pt x="3200" y="14684"/>
                </a:moveTo>
                <a:cubicBezTo>
                  <a:pt x="3114" y="14718"/>
                  <a:pt x="3092" y="14743"/>
                  <a:pt x="3026" y="14808"/>
                </a:cubicBezTo>
                <a:cubicBezTo>
                  <a:pt x="2988" y="14846"/>
                  <a:pt x="3001" y="14881"/>
                  <a:pt x="3001" y="14932"/>
                </a:cubicBezTo>
                <a:cubicBezTo>
                  <a:pt x="3079" y="14932"/>
                  <a:pt x="3210" y="14870"/>
                  <a:pt x="3274" y="14883"/>
                </a:cubicBezTo>
                <a:cubicBezTo>
                  <a:pt x="3415" y="14913"/>
                  <a:pt x="3354" y="15081"/>
                  <a:pt x="3274" y="15131"/>
                </a:cubicBezTo>
                <a:cubicBezTo>
                  <a:pt x="3192" y="15159"/>
                  <a:pt x="3160" y="15165"/>
                  <a:pt x="3101" y="15131"/>
                </a:cubicBezTo>
              </a:path>
              <a:path w="1266" h="3722">
                <a:moveTo>
                  <a:pt x="3101" y="14709"/>
                </a:moveTo>
                <a:cubicBezTo>
                  <a:pt x="3115" y="14703"/>
                  <a:pt x="3396" y="14591"/>
                  <a:pt x="3398" y="14610"/>
                </a:cubicBezTo>
                <a:cubicBezTo>
                  <a:pt x="3390" y="14627"/>
                  <a:pt x="3381" y="14643"/>
                  <a:pt x="3373" y="14660"/>
                </a:cubicBezTo>
              </a:path>
              <a:path w="1266" h="3722">
                <a:moveTo>
                  <a:pt x="2381" y="15453"/>
                </a:moveTo>
                <a:cubicBezTo>
                  <a:pt x="2381" y="15566"/>
                  <a:pt x="2339" y="15667"/>
                  <a:pt x="2307" y="15776"/>
                </a:cubicBezTo>
                <a:cubicBezTo>
                  <a:pt x="2285" y="15841"/>
                  <a:pt x="2286" y="15866"/>
                  <a:pt x="2232" y="15850"/>
                </a:cubicBezTo>
              </a:path>
              <a:path w="1266" h="3722">
                <a:moveTo>
                  <a:pt x="2282" y="15677"/>
                </a:moveTo>
                <a:cubicBezTo>
                  <a:pt x="2406" y="15627"/>
                  <a:pt x="2447" y="15610"/>
                  <a:pt x="2530" y="15577"/>
                </a:cubicBezTo>
              </a:path>
              <a:path w="1266" h="3722">
                <a:moveTo>
                  <a:pt x="3200" y="15404"/>
                </a:moveTo>
                <a:cubicBezTo>
                  <a:pt x="3128" y="15418"/>
                  <a:pt x="3079" y="15429"/>
                  <a:pt x="3001" y="15429"/>
                </a:cubicBezTo>
                <a:cubicBezTo>
                  <a:pt x="2963" y="15429"/>
                  <a:pt x="2957" y="15505"/>
                  <a:pt x="2927" y="15528"/>
                </a:cubicBezTo>
                <a:cubicBezTo>
                  <a:pt x="2996" y="15528"/>
                  <a:pt x="3122" y="15491"/>
                  <a:pt x="3175" y="15503"/>
                </a:cubicBezTo>
                <a:cubicBezTo>
                  <a:pt x="3268" y="15524"/>
                  <a:pt x="3421" y="15614"/>
                  <a:pt x="3324" y="15726"/>
                </a:cubicBezTo>
                <a:cubicBezTo>
                  <a:pt x="3235" y="15830"/>
                  <a:pt x="3112" y="15787"/>
                  <a:pt x="3001" y="15776"/>
                </a:cubicBezTo>
              </a:path>
              <a:path w="1266" h="3722">
                <a:moveTo>
                  <a:pt x="2282" y="15999"/>
                </a:moveTo>
                <a:cubicBezTo>
                  <a:pt x="2608" y="15936"/>
                  <a:pt x="2944" y="15858"/>
                  <a:pt x="3274" y="15825"/>
                </a:cubicBezTo>
                <a:cubicBezTo>
                  <a:pt x="3356" y="15817"/>
                  <a:pt x="3555" y="15825"/>
                  <a:pt x="3473" y="15825"/>
                </a:cubicBezTo>
              </a:path>
              <a:path w="1266" h="3722">
                <a:moveTo>
                  <a:pt x="2530" y="16098"/>
                </a:moveTo>
                <a:cubicBezTo>
                  <a:pt x="2638" y="16098"/>
                  <a:pt x="2671" y="16056"/>
                  <a:pt x="2778" y="16123"/>
                </a:cubicBezTo>
                <a:cubicBezTo>
                  <a:pt x="2900" y="16200"/>
                  <a:pt x="2659" y="16354"/>
                  <a:pt x="2629" y="16371"/>
                </a:cubicBezTo>
                <a:cubicBezTo>
                  <a:pt x="2541" y="16415"/>
                  <a:pt x="2520" y="16432"/>
                  <a:pt x="2456" y="16421"/>
                </a:cubicBezTo>
                <a:cubicBezTo>
                  <a:pt x="2529" y="16295"/>
                  <a:pt x="2622" y="16222"/>
                  <a:pt x="2778" y="16197"/>
                </a:cubicBezTo>
                <a:cubicBezTo>
                  <a:pt x="2868" y="16182"/>
                  <a:pt x="2862" y="16187"/>
                  <a:pt x="2902" y="16247"/>
                </a:cubicBezTo>
              </a:path>
              <a:path w="1266" h="3722">
                <a:moveTo>
                  <a:pt x="3125" y="16222"/>
                </a:moveTo>
                <a:cubicBezTo>
                  <a:pt x="3117" y="16247"/>
                  <a:pt x="3109" y="16272"/>
                  <a:pt x="3101" y="16297"/>
                </a:cubicBezTo>
                <a:cubicBezTo>
                  <a:pt x="3235" y="16340"/>
                  <a:pt x="3324" y="16303"/>
                  <a:pt x="3423" y="16197"/>
                </a:cubicBezTo>
                <a:cubicBezTo>
                  <a:pt x="3546" y="16064"/>
                  <a:pt x="3345" y="16072"/>
                  <a:pt x="3249" y="1604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009880" y="4286160"/>
            <a:ext cx="1625400" cy="1492200"/>
          </a:xfrm>
          <a:custGeom>
            <a:avLst/>
            <a:gdLst/>
            <a:ahLst/>
            <a:rect l="l" t="t" r="r" b="b"/>
            <a:pathLst>
              <a:path w="4516" h="4144">
                <a:moveTo>
                  <a:pt x="5581" y="11906"/>
                </a:moveTo>
                <a:cubicBezTo>
                  <a:pt x="5758" y="11906"/>
                  <a:pt x="5925" y="11917"/>
                  <a:pt x="6102" y="11931"/>
                </a:cubicBezTo>
                <a:cubicBezTo>
                  <a:pt x="6417" y="11956"/>
                  <a:pt x="6732" y="11951"/>
                  <a:pt x="7045" y="11981"/>
                </a:cubicBezTo>
                <a:cubicBezTo>
                  <a:pt x="7069" y="11981"/>
                  <a:pt x="7078" y="11981"/>
                  <a:pt x="7094" y="11981"/>
                </a:cubicBezTo>
              </a:path>
              <a:path w="4516" h="4144">
                <a:moveTo>
                  <a:pt x="7169" y="14387"/>
                </a:moveTo>
                <a:cubicBezTo>
                  <a:pt x="7067" y="14387"/>
                  <a:pt x="6976" y="14426"/>
                  <a:pt x="6871" y="14412"/>
                </a:cubicBezTo>
                <a:cubicBezTo>
                  <a:pt x="6762" y="14397"/>
                  <a:pt x="6825" y="14363"/>
                  <a:pt x="6772" y="14486"/>
                </a:cubicBezTo>
                <a:cubicBezTo>
                  <a:pt x="6735" y="14570"/>
                  <a:pt x="6710" y="14618"/>
                  <a:pt x="6697" y="14709"/>
                </a:cubicBezTo>
                <a:cubicBezTo>
                  <a:pt x="6805" y="14691"/>
                  <a:pt x="6906" y="14648"/>
                  <a:pt x="7020" y="14660"/>
                </a:cubicBezTo>
                <a:cubicBezTo>
                  <a:pt x="7115" y="14683"/>
                  <a:pt x="7146" y="14688"/>
                  <a:pt x="7169" y="14759"/>
                </a:cubicBezTo>
                <a:cubicBezTo>
                  <a:pt x="7107" y="14923"/>
                  <a:pt x="7013" y="15087"/>
                  <a:pt x="6796" y="15032"/>
                </a:cubicBezTo>
                <a:cubicBezTo>
                  <a:pt x="6755" y="15007"/>
                  <a:pt x="6713" y="14982"/>
                  <a:pt x="6672" y="14957"/>
                </a:cubicBezTo>
              </a:path>
              <a:path w="4516" h="4144">
                <a:moveTo>
                  <a:pt x="6499" y="15205"/>
                </a:moveTo>
                <a:cubicBezTo>
                  <a:pt x="6716" y="15184"/>
                  <a:pt x="6925" y="15180"/>
                  <a:pt x="7144" y="15180"/>
                </a:cubicBezTo>
              </a:path>
              <a:path w="4516" h="4144">
                <a:moveTo>
                  <a:pt x="6300" y="15627"/>
                </a:moveTo>
                <a:cubicBezTo>
                  <a:pt x="6451" y="15612"/>
                  <a:pt x="6584" y="15559"/>
                  <a:pt x="6672" y="15726"/>
                </a:cubicBezTo>
                <a:cubicBezTo>
                  <a:pt x="6758" y="15889"/>
                  <a:pt x="6592" y="16064"/>
                  <a:pt x="6424" y="16049"/>
                </a:cubicBezTo>
                <a:cubicBezTo>
                  <a:pt x="6320" y="16007"/>
                  <a:pt x="6293" y="16005"/>
                  <a:pt x="6251" y="15949"/>
                </a:cubicBezTo>
                <a:cubicBezTo>
                  <a:pt x="6352" y="15837"/>
                  <a:pt x="6463" y="15772"/>
                  <a:pt x="6623" y="15850"/>
                </a:cubicBezTo>
                <a:cubicBezTo>
                  <a:pt x="6662" y="15869"/>
                  <a:pt x="6688" y="15913"/>
                  <a:pt x="6697" y="15949"/>
                </a:cubicBezTo>
              </a:path>
              <a:path w="4516" h="4144">
                <a:moveTo>
                  <a:pt x="6921" y="15677"/>
                </a:moveTo>
                <a:cubicBezTo>
                  <a:pt x="6802" y="15866"/>
                  <a:pt x="6802" y="15959"/>
                  <a:pt x="7069" y="15949"/>
                </a:cubicBezTo>
                <a:cubicBezTo>
                  <a:pt x="7207" y="15944"/>
                  <a:pt x="7477" y="15843"/>
                  <a:pt x="7342" y="15652"/>
                </a:cubicBezTo>
                <a:cubicBezTo>
                  <a:pt x="7294" y="15584"/>
                  <a:pt x="7184" y="15549"/>
                  <a:pt x="7119" y="15503"/>
                </a:cubicBezTo>
              </a:path>
              <a:path w="4516" h="4144">
                <a:moveTo>
                  <a:pt x="7565" y="15304"/>
                </a:moveTo>
                <a:cubicBezTo>
                  <a:pt x="7637" y="15295"/>
                  <a:pt x="7687" y="15285"/>
                  <a:pt x="7764" y="15280"/>
                </a:cubicBezTo>
              </a:path>
              <a:path w="4516" h="4144">
                <a:moveTo>
                  <a:pt x="7640" y="15453"/>
                </a:moveTo>
                <a:cubicBezTo>
                  <a:pt x="7732" y="15453"/>
                  <a:pt x="7758" y="15455"/>
                  <a:pt x="7813" y="15429"/>
                </a:cubicBezTo>
              </a:path>
              <a:path w="4516" h="4144">
                <a:moveTo>
                  <a:pt x="8830" y="15255"/>
                </a:moveTo>
                <a:cubicBezTo>
                  <a:pt x="8887" y="15480"/>
                  <a:pt x="8851" y="15647"/>
                  <a:pt x="8830" y="15875"/>
                </a:cubicBezTo>
                <a:cubicBezTo>
                  <a:pt x="8830" y="15900"/>
                  <a:pt x="8830" y="15924"/>
                  <a:pt x="8830" y="15949"/>
                </a:cubicBezTo>
              </a:path>
              <a:path w="4516" h="4144">
                <a:moveTo>
                  <a:pt x="9178" y="15379"/>
                </a:moveTo>
                <a:cubicBezTo>
                  <a:pt x="9109" y="15505"/>
                  <a:pt x="8939" y="15747"/>
                  <a:pt x="9178" y="15825"/>
                </a:cubicBezTo>
                <a:cubicBezTo>
                  <a:pt x="9328" y="15874"/>
                  <a:pt x="9585" y="15768"/>
                  <a:pt x="9525" y="15577"/>
                </a:cubicBezTo>
                <a:cubicBezTo>
                  <a:pt x="9494" y="15478"/>
                  <a:pt x="9382" y="15427"/>
                  <a:pt x="9302" y="15379"/>
                </a:cubicBezTo>
              </a:path>
              <a:path w="4516" h="4144">
                <a:moveTo>
                  <a:pt x="9847" y="15354"/>
                </a:moveTo>
                <a:cubicBezTo>
                  <a:pt x="9742" y="15475"/>
                  <a:pt x="9622" y="15603"/>
                  <a:pt x="9699" y="15776"/>
                </a:cubicBezTo>
                <a:cubicBezTo>
                  <a:pt x="9793" y="15988"/>
                  <a:pt x="10047" y="15827"/>
                  <a:pt x="10096" y="15677"/>
                </a:cubicBezTo>
                <a:cubicBezTo>
                  <a:pt x="10160" y="15482"/>
                  <a:pt x="9943" y="15441"/>
                  <a:pt x="9823" y="15379"/>
                </a:cubicBezTo>
              </a:path>
              <a:path w="4516" h="4144">
                <a:moveTo>
                  <a:pt x="8979" y="15280"/>
                </a:moveTo>
                <a:cubicBezTo>
                  <a:pt x="9191" y="15262"/>
                  <a:pt x="9411" y="15202"/>
                  <a:pt x="9624" y="15205"/>
                </a:cubicBezTo>
                <a:cubicBezTo>
                  <a:pt x="9628" y="15205"/>
                  <a:pt x="9975" y="15230"/>
                  <a:pt x="9922" y="15230"/>
                </a:cubicBezTo>
              </a:path>
              <a:path w="4516" h="4144">
                <a:moveTo>
                  <a:pt x="7764" y="15205"/>
                </a:moveTo>
                <a:cubicBezTo>
                  <a:pt x="7772" y="15197"/>
                  <a:pt x="7781" y="15188"/>
                  <a:pt x="7789" y="15180"/>
                </a:cubicBezTo>
                <a:cubicBezTo>
                  <a:pt x="7789" y="15280"/>
                  <a:pt x="7789" y="15375"/>
                  <a:pt x="7863" y="15453"/>
                </a:cubicBezTo>
                <a:cubicBezTo>
                  <a:pt x="7880" y="15461"/>
                  <a:pt x="7896" y="15470"/>
                  <a:pt x="7913" y="15478"/>
                </a:cubicBezTo>
              </a:path>
              <a:path w="4516" h="4144">
                <a:moveTo>
                  <a:pt x="7888" y="15156"/>
                </a:moveTo>
                <a:cubicBezTo>
                  <a:pt x="7823" y="15210"/>
                  <a:pt x="7698" y="15366"/>
                  <a:pt x="7640" y="15453"/>
                </a:cubicBezTo>
                <a:cubicBezTo>
                  <a:pt x="7640" y="15461"/>
                  <a:pt x="7640" y="15470"/>
                  <a:pt x="7640" y="15478"/>
                </a:cubicBezTo>
              </a:path>
              <a:path w="4516" h="4144">
                <a:moveTo>
                  <a:pt x="8359" y="15354"/>
                </a:moveTo>
                <a:cubicBezTo>
                  <a:pt x="8263" y="15354"/>
                  <a:pt x="8179" y="15366"/>
                  <a:pt x="8086" y="15379"/>
                </a:cubicBezTo>
                <a:cubicBezTo>
                  <a:pt x="7994" y="15392"/>
                  <a:pt x="8054" y="15465"/>
                  <a:pt x="8012" y="15553"/>
                </a:cubicBezTo>
                <a:cubicBezTo>
                  <a:pt x="8004" y="15561"/>
                  <a:pt x="7995" y="15569"/>
                  <a:pt x="7987" y="15577"/>
                </a:cubicBezTo>
                <a:cubicBezTo>
                  <a:pt x="8066" y="15577"/>
                  <a:pt x="8104" y="15551"/>
                  <a:pt x="8186" y="15577"/>
                </a:cubicBezTo>
                <a:cubicBezTo>
                  <a:pt x="8326" y="15622"/>
                  <a:pt x="8182" y="15793"/>
                  <a:pt x="8111" y="15825"/>
                </a:cubicBezTo>
                <a:cubicBezTo>
                  <a:pt x="7979" y="15884"/>
                  <a:pt x="7950" y="15828"/>
                  <a:pt x="7863" y="15751"/>
                </a:cubicBezTo>
              </a:path>
              <a:path w="4516" h="4144">
                <a:moveTo>
                  <a:pt x="8458" y="15205"/>
                </a:moveTo>
                <a:cubicBezTo>
                  <a:pt x="8518" y="15205"/>
                  <a:pt x="8591" y="15188"/>
                  <a:pt x="8607" y="15205"/>
                </a:cubicBezTo>
              </a:path>
              <a:path w="4516" h="4144">
                <a:moveTo>
                  <a:pt x="8508" y="15404"/>
                </a:moveTo>
                <a:cubicBezTo>
                  <a:pt x="8566" y="15404"/>
                  <a:pt x="8624" y="15404"/>
                  <a:pt x="8682" y="15404"/>
                </a:cubicBezTo>
              </a:path>
              <a:path w="4516" h="4144">
                <a:moveTo>
                  <a:pt x="7888" y="14982"/>
                </a:moveTo>
                <a:cubicBezTo>
                  <a:pt x="7994" y="14982"/>
                  <a:pt x="8075" y="14987"/>
                  <a:pt x="8186" y="14982"/>
                </a:cubicBezTo>
                <a:cubicBezTo>
                  <a:pt x="8276" y="14978"/>
                  <a:pt x="8368" y="14982"/>
                  <a:pt x="8458" y="14982"/>
                </a:cubicBezTo>
              </a:path>
              <a:path w="4516" h="4144">
                <a:moveTo>
                  <a:pt x="8235" y="14362"/>
                </a:moveTo>
                <a:cubicBezTo>
                  <a:pt x="8168" y="14370"/>
                  <a:pt x="8092" y="14378"/>
                  <a:pt x="8062" y="14412"/>
                </a:cubicBezTo>
                <a:cubicBezTo>
                  <a:pt x="8028" y="14451"/>
                  <a:pt x="7984" y="14474"/>
                  <a:pt x="7962" y="14511"/>
                </a:cubicBezTo>
                <a:cubicBezTo>
                  <a:pt x="8041" y="14511"/>
                  <a:pt x="8276" y="14461"/>
                  <a:pt x="8310" y="14560"/>
                </a:cubicBezTo>
                <a:cubicBezTo>
                  <a:pt x="8360" y="14704"/>
                  <a:pt x="8153" y="14830"/>
                  <a:pt x="8037" y="14833"/>
                </a:cubicBezTo>
                <a:cubicBezTo>
                  <a:pt x="7942" y="14809"/>
                  <a:pt x="7912" y="14804"/>
                  <a:pt x="7888" y="14734"/>
                </a:cubicBezTo>
              </a:path>
              <a:path w="4516" h="4144">
                <a:moveTo>
                  <a:pt x="8806" y="14560"/>
                </a:moveTo>
                <a:cubicBezTo>
                  <a:pt x="8893" y="14526"/>
                  <a:pt x="8955" y="14644"/>
                  <a:pt x="8979" y="14734"/>
                </a:cubicBezTo>
                <a:cubicBezTo>
                  <a:pt x="9011" y="14853"/>
                  <a:pt x="8886" y="14932"/>
                  <a:pt x="8781" y="14932"/>
                </a:cubicBezTo>
                <a:cubicBezTo>
                  <a:pt x="8720" y="14912"/>
                  <a:pt x="8705" y="14915"/>
                  <a:pt x="8682" y="14883"/>
                </a:cubicBezTo>
                <a:cubicBezTo>
                  <a:pt x="8748" y="14794"/>
                  <a:pt x="8862" y="14727"/>
                  <a:pt x="8979" y="14808"/>
                </a:cubicBezTo>
                <a:cubicBezTo>
                  <a:pt x="8996" y="14820"/>
                  <a:pt x="9070" y="14914"/>
                  <a:pt x="9079" y="14932"/>
                </a:cubicBezTo>
              </a:path>
              <a:path w="4516" h="4144">
                <a:moveTo>
                  <a:pt x="9227" y="14610"/>
                </a:moveTo>
                <a:cubicBezTo>
                  <a:pt x="9273" y="14724"/>
                  <a:pt x="9386" y="14681"/>
                  <a:pt x="9475" y="14759"/>
                </a:cubicBezTo>
                <a:cubicBezTo>
                  <a:pt x="9565" y="14837"/>
                  <a:pt x="9596" y="15026"/>
                  <a:pt x="9426" y="15032"/>
                </a:cubicBezTo>
                <a:cubicBezTo>
                  <a:pt x="9303" y="15001"/>
                  <a:pt x="9253" y="14975"/>
                  <a:pt x="9203" y="14883"/>
                </a:cubicBezTo>
              </a:path>
              <a:path w="4516" h="4144">
                <a:moveTo>
                  <a:pt x="9401" y="14486"/>
                </a:moveTo>
                <a:cubicBezTo>
                  <a:pt x="9484" y="14470"/>
                  <a:pt x="9539" y="14461"/>
                  <a:pt x="9624" y="1446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197320" y="4106880"/>
            <a:ext cx="44640" cy="73080"/>
          </a:xfrm>
          <a:custGeom>
            <a:avLst/>
            <a:gdLst/>
            <a:ahLst/>
            <a:rect l="l" t="t" r="r" b="b"/>
            <a:pathLst>
              <a:path w="125" h="200">
                <a:moveTo>
                  <a:pt x="14511" y="11410"/>
                </a:moveTo>
                <a:cubicBezTo>
                  <a:pt x="14450" y="11488"/>
                  <a:pt x="14444" y="11509"/>
                  <a:pt x="14436" y="11609"/>
                </a:cubicBezTo>
                <a:cubicBezTo>
                  <a:pt x="14501" y="11609"/>
                  <a:pt x="14577" y="11628"/>
                  <a:pt x="14560" y="11534"/>
                </a:cubicBezTo>
                <a:cubicBezTo>
                  <a:pt x="14539" y="11417"/>
                  <a:pt x="14515" y="11496"/>
                  <a:pt x="14486" y="1141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384880" y="3894120"/>
            <a:ext cx="357120" cy="231840"/>
          </a:xfrm>
          <a:custGeom>
            <a:avLst/>
            <a:gdLst/>
            <a:ahLst/>
            <a:rect l="l" t="t" r="r" b="b"/>
            <a:pathLst>
              <a:path w="993" h="646">
                <a:moveTo>
                  <a:pt x="14982" y="10964"/>
                </a:moveTo>
                <a:cubicBezTo>
                  <a:pt x="15036" y="10891"/>
                  <a:pt x="15160" y="10908"/>
                  <a:pt x="15230" y="10988"/>
                </a:cubicBezTo>
                <a:cubicBezTo>
                  <a:pt x="15357" y="11133"/>
                  <a:pt x="15292" y="11345"/>
                  <a:pt x="15131" y="11435"/>
                </a:cubicBezTo>
                <a:cubicBezTo>
                  <a:pt x="15042" y="11457"/>
                  <a:pt x="15017" y="11473"/>
                  <a:pt x="14982" y="11410"/>
                </a:cubicBezTo>
                <a:cubicBezTo>
                  <a:pt x="14982" y="11280"/>
                  <a:pt x="15046" y="11198"/>
                  <a:pt x="15205" y="11261"/>
                </a:cubicBezTo>
                <a:cubicBezTo>
                  <a:pt x="15267" y="11286"/>
                  <a:pt x="15276" y="11323"/>
                  <a:pt x="15329" y="11336"/>
                </a:cubicBezTo>
              </a:path>
              <a:path w="993" h="646">
                <a:moveTo>
                  <a:pt x="15875" y="10815"/>
                </a:moveTo>
                <a:cubicBezTo>
                  <a:pt x="15784" y="10851"/>
                  <a:pt x="15660" y="10850"/>
                  <a:pt x="15577" y="10889"/>
                </a:cubicBezTo>
                <a:cubicBezTo>
                  <a:pt x="15525" y="10913"/>
                  <a:pt x="15506" y="11041"/>
                  <a:pt x="15478" y="11088"/>
                </a:cubicBezTo>
                <a:cubicBezTo>
                  <a:pt x="15470" y="11096"/>
                  <a:pt x="15461" y="11104"/>
                  <a:pt x="15453" y="11112"/>
                </a:cubicBezTo>
                <a:cubicBezTo>
                  <a:pt x="15571" y="11096"/>
                  <a:pt x="15703" y="11036"/>
                  <a:pt x="15825" y="11063"/>
                </a:cubicBezTo>
                <a:cubicBezTo>
                  <a:pt x="16035" y="11109"/>
                  <a:pt x="15940" y="11301"/>
                  <a:pt x="15825" y="11385"/>
                </a:cubicBezTo>
                <a:cubicBezTo>
                  <a:pt x="15623" y="11532"/>
                  <a:pt x="15517" y="11414"/>
                  <a:pt x="15478" y="1123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902200" y="3884760"/>
            <a:ext cx="1295640" cy="250560"/>
          </a:xfrm>
          <a:custGeom>
            <a:avLst/>
            <a:gdLst/>
            <a:ahLst/>
            <a:rect l="l" t="t" r="r" b="b"/>
            <a:pathLst>
              <a:path w="3598" h="696">
                <a:moveTo>
                  <a:pt x="16495" y="10988"/>
                </a:moveTo>
                <a:cubicBezTo>
                  <a:pt x="16426" y="11099"/>
                  <a:pt x="16303" y="11285"/>
                  <a:pt x="16520" y="11336"/>
                </a:cubicBezTo>
                <a:cubicBezTo>
                  <a:pt x="16656" y="11368"/>
                  <a:pt x="16931" y="11330"/>
                  <a:pt x="16892" y="11137"/>
                </a:cubicBezTo>
                <a:cubicBezTo>
                  <a:pt x="16868" y="11018"/>
                  <a:pt x="16735" y="11071"/>
                  <a:pt x="16694" y="10988"/>
                </a:cubicBezTo>
              </a:path>
              <a:path w="3598" h="696">
                <a:moveTo>
                  <a:pt x="17016" y="11187"/>
                </a:moveTo>
                <a:cubicBezTo>
                  <a:pt x="17037" y="11271"/>
                  <a:pt x="17039" y="11290"/>
                  <a:pt x="17066" y="11336"/>
                </a:cubicBezTo>
                <a:cubicBezTo>
                  <a:pt x="17085" y="11236"/>
                  <a:pt x="17116" y="11140"/>
                  <a:pt x="17190" y="11063"/>
                </a:cubicBezTo>
                <a:cubicBezTo>
                  <a:pt x="17267" y="11011"/>
                  <a:pt x="17295" y="10995"/>
                  <a:pt x="17363" y="11013"/>
                </a:cubicBezTo>
              </a:path>
              <a:path w="3598" h="696">
                <a:moveTo>
                  <a:pt x="17909" y="11013"/>
                </a:moveTo>
                <a:cubicBezTo>
                  <a:pt x="18062" y="10989"/>
                  <a:pt x="18178" y="11020"/>
                  <a:pt x="18182" y="11212"/>
                </a:cubicBezTo>
                <a:cubicBezTo>
                  <a:pt x="18186" y="11405"/>
                  <a:pt x="17951" y="11563"/>
                  <a:pt x="17785" y="11435"/>
                </a:cubicBezTo>
                <a:cubicBezTo>
                  <a:pt x="17736" y="11339"/>
                  <a:pt x="17719" y="11308"/>
                  <a:pt x="17760" y="11237"/>
                </a:cubicBezTo>
                <a:cubicBezTo>
                  <a:pt x="17932" y="11200"/>
                  <a:pt x="17993" y="11227"/>
                  <a:pt x="18132" y="11336"/>
                </a:cubicBezTo>
                <a:cubicBezTo>
                  <a:pt x="18140" y="11344"/>
                  <a:pt x="18149" y="11353"/>
                  <a:pt x="18157" y="11361"/>
                </a:cubicBezTo>
              </a:path>
              <a:path w="3598" h="696">
                <a:moveTo>
                  <a:pt x="18479" y="10964"/>
                </a:moveTo>
                <a:cubicBezTo>
                  <a:pt x="18441" y="11002"/>
                  <a:pt x="18430" y="11010"/>
                  <a:pt x="18430" y="11063"/>
                </a:cubicBezTo>
                <a:cubicBezTo>
                  <a:pt x="18553" y="11063"/>
                  <a:pt x="18725" y="11039"/>
                  <a:pt x="18777" y="11187"/>
                </a:cubicBezTo>
                <a:cubicBezTo>
                  <a:pt x="18840" y="11365"/>
                  <a:pt x="18648" y="11462"/>
                  <a:pt x="18504" y="11385"/>
                </a:cubicBezTo>
                <a:cubicBezTo>
                  <a:pt x="18471" y="11352"/>
                  <a:pt x="18438" y="11319"/>
                  <a:pt x="18405" y="11286"/>
                </a:cubicBezTo>
              </a:path>
              <a:path w="3598" h="696">
                <a:moveTo>
                  <a:pt x="18628" y="10939"/>
                </a:moveTo>
                <a:cubicBezTo>
                  <a:pt x="18762" y="10932"/>
                  <a:pt x="18890" y="10920"/>
                  <a:pt x="19025" y="10914"/>
                </a:cubicBezTo>
              </a:path>
              <a:path w="3598" h="696">
                <a:moveTo>
                  <a:pt x="19323" y="10840"/>
                </a:moveTo>
                <a:cubicBezTo>
                  <a:pt x="19224" y="10854"/>
                  <a:pt x="19145" y="10866"/>
                  <a:pt x="19100" y="10964"/>
                </a:cubicBezTo>
                <a:cubicBezTo>
                  <a:pt x="19100" y="10972"/>
                  <a:pt x="19100" y="10980"/>
                  <a:pt x="19100" y="10988"/>
                </a:cubicBezTo>
                <a:cubicBezTo>
                  <a:pt x="19173" y="10998"/>
                  <a:pt x="19367" y="11023"/>
                  <a:pt x="19298" y="10864"/>
                </a:cubicBezTo>
                <a:cubicBezTo>
                  <a:pt x="19259" y="10826"/>
                  <a:pt x="19227" y="10809"/>
                  <a:pt x="19273" y="10815"/>
                </a:cubicBezTo>
                <a:cubicBezTo>
                  <a:pt x="19387" y="10766"/>
                  <a:pt x="19491" y="10807"/>
                  <a:pt x="19571" y="10914"/>
                </a:cubicBezTo>
                <a:cubicBezTo>
                  <a:pt x="19693" y="11078"/>
                  <a:pt x="19543" y="11250"/>
                  <a:pt x="19422" y="11361"/>
                </a:cubicBezTo>
                <a:cubicBezTo>
                  <a:pt x="19389" y="11386"/>
                  <a:pt x="19356" y="11410"/>
                  <a:pt x="19323" y="11435"/>
                </a:cubicBezTo>
              </a:path>
              <a:path w="3598" h="696">
                <a:moveTo>
                  <a:pt x="19720" y="11261"/>
                </a:moveTo>
                <a:cubicBezTo>
                  <a:pt x="19696" y="11380"/>
                  <a:pt x="19753" y="11436"/>
                  <a:pt x="19893" y="11385"/>
                </a:cubicBezTo>
                <a:cubicBezTo>
                  <a:pt x="19965" y="11338"/>
                  <a:pt x="19989" y="11325"/>
                  <a:pt x="19993" y="11261"/>
                </a:cubicBezTo>
                <a:cubicBezTo>
                  <a:pt x="19897" y="11214"/>
                  <a:pt x="19823" y="11189"/>
                  <a:pt x="19720" y="1116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Unit 8: Statistics and Probabilit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:  Students will express the probability of an event as a decimal, fraction and perc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74880" y="6715080"/>
            <a:ext cx="9360" cy="9720"/>
          </a:xfrm>
          <a:custGeom>
            <a:avLst/>
            <a:gdLst/>
            <a:ahLst/>
            <a:rect l="l" t="t" r="r" b="b"/>
            <a:pathLst>
              <a:path w="26" h="26">
                <a:moveTo>
                  <a:pt x="5234" y="18653"/>
                </a:moveTo>
                <a:cubicBezTo>
                  <a:pt x="5226" y="18661"/>
                  <a:pt x="5217" y="18670"/>
                  <a:pt x="5209" y="1867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9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ive:  Students will express the probability of an event as a decimal, fraction and percent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70000" y="2707920"/>
            <a:ext cx="7772400" cy="33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cabulary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ossing a coin is an example of an experime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come: possible result of an experiment (such as head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t: Collection of outco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58400"/>
            <a:ext cx="8610480" cy="174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identify the probability of an event as a decimal, fraction and perc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bability of an event is the measure of the likelihood that the event will occu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600200" y="4343400"/>
          <a:ext cx="528336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343400"/>
                    <a:ext cx="52833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81072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:  Students will identify the probability of an event as a decimal, fraction and perc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nding a probability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randomly choose a day of the week for sending an e-mail to your cousin. Find the probability that you choose Tuesda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e favorable outcome which is Tuesd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7 possible outcomes are “Sunday,” “Monday,” “Tuesday,” “Wednesday,” “Thursday,” “Friday,” and “Saturday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of choosing Tuesday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873080" y="5410080"/>
          <a:ext cx="5473800" cy="8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3080" y="5410080"/>
                    <a:ext cx="547380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1920" y="158400"/>
            <a:ext cx="8991720" cy="125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identify the probability of an event as a decimal, fraction and percent </a:t>
            </a:r>
            <a:br>
              <a:rPr sz="2000"/>
            </a:b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You roll a number cube. Find and describe the probability of the event: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) you roll an even numb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) you roll a number less than 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) you roll a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) you roll a number greater than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28880" y="2660760"/>
            <a:ext cx="1731960" cy="447480"/>
          </a:xfrm>
          <a:custGeom>
            <a:avLst/>
            <a:gdLst/>
            <a:ahLst/>
            <a:rect l="l" t="t" r="r" b="b"/>
            <a:pathLst>
              <a:path w="4813" h="1241">
                <a:moveTo>
                  <a:pt x="5407" y="7590"/>
                </a:moveTo>
                <a:cubicBezTo>
                  <a:pt x="5405" y="7594"/>
                  <a:pt x="5337" y="7619"/>
                  <a:pt x="5358" y="7640"/>
                </a:cubicBezTo>
                <a:cubicBezTo>
                  <a:pt x="5407" y="7689"/>
                  <a:pt x="5690" y="7695"/>
                  <a:pt x="5755" y="7689"/>
                </a:cubicBezTo>
                <a:cubicBezTo>
                  <a:pt x="5945" y="7671"/>
                  <a:pt x="6135" y="7643"/>
                  <a:pt x="6325" y="7615"/>
                </a:cubicBezTo>
                <a:cubicBezTo>
                  <a:pt x="6652" y="7567"/>
                  <a:pt x="6987" y="7579"/>
                  <a:pt x="7317" y="7541"/>
                </a:cubicBezTo>
                <a:cubicBezTo>
                  <a:pt x="7656" y="7502"/>
                  <a:pt x="7994" y="7470"/>
                  <a:pt x="8334" y="7441"/>
                </a:cubicBezTo>
                <a:cubicBezTo>
                  <a:pt x="8673" y="7412"/>
                  <a:pt x="9014" y="7446"/>
                  <a:pt x="9351" y="7417"/>
                </a:cubicBezTo>
                <a:cubicBezTo>
                  <a:pt x="9455" y="7408"/>
                  <a:pt x="9503" y="7409"/>
                  <a:pt x="9599" y="7417"/>
                </a:cubicBezTo>
                <a:cubicBezTo>
                  <a:pt x="9607" y="7417"/>
                  <a:pt x="9616" y="7417"/>
                  <a:pt x="9624" y="7417"/>
                </a:cubicBezTo>
              </a:path>
              <a:path w="4813" h="1241">
                <a:moveTo>
                  <a:pt x="5606" y="7913"/>
                </a:moveTo>
                <a:cubicBezTo>
                  <a:pt x="5606" y="8066"/>
                  <a:pt x="5606" y="8209"/>
                  <a:pt x="5631" y="8359"/>
                </a:cubicBezTo>
              </a:path>
              <a:path w="4813" h="1241">
                <a:moveTo>
                  <a:pt x="5953" y="8458"/>
                </a:moveTo>
                <a:cubicBezTo>
                  <a:pt x="5971" y="8519"/>
                  <a:pt x="5978" y="8529"/>
                  <a:pt x="5978" y="8582"/>
                </a:cubicBezTo>
              </a:path>
              <a:path w="4813" h="1241">
                <a:moveTo>
                  <a:pt x="6350" y="8037"/>
                </a:moveTo>
                <a:cubicBezTo>
                  <a:pt x="6439" y="8041"/>
                  <a:pt x="6741" y="8026"/>
                  <a:pt x="6672" y="8210"/>
                </a:cubicBezTo>
                <a:cubicBezTo>
                  <a:pt x="6634" y="8312"/>
                  <a:pt x="6415" y="8438"/>
                  <a:pt x="6325" y="8359"/>
                </a:cubicBezTo>
                <a:cubicBezTo>
                  <a:pt x="6325" y="8351"/>
                  <a:pt x="6325" y="8342"/>
                  <a:pt x="6325" y="8334"/>
                </a:cubicBezTo>
                <a:cubicBezTo>
                  <a:pt x="6430" y="8295"/>
                  <a:pt x="6567" y="8240"/>
                  <a:pt x="6672" y="8334"/>
                </a:cubicBezTo>
                <a:cubicBezTo>
                  <a:pt x="6703" y="8362"/>
                  <a:pt x="6746" y="8422"/>
                  <a:pt x="6772" y="8483"/>
                </a:cubicBezTo>
                <a:cubicBezTo>
                  <a:pt x="6812" y="8577"/>
                  <a:pt x="6789" y="8597"/>
                  <a:pt x="6871" y="8632"/>
                </a:cubicBezTo>
              </a:path>
              <a:path w="4813" h="1241">
                <a:moveTo>
                  <a:pt x="7193" y="8037"/>
                </a:moveTo>
                <a:cubicBezTo>
                  <a:pt x="7193" y="7911"/>
                  <a:pt x="7284" y="7923"/>
                  <a:pt x="7392" y="7888"/>
                </a:cubicBezTo>
                <a:cubicBezTo>
                  <a:pt x="7417" y="7880"/>
                  <a:pt x="7441" y="7871"/>
                  <a:pt x="7466" y="7863"/>
                </a:cubicBezTo>
                <a:cubicBezTo>
                  <a:pt x="7491" y="7977"/>
                  <a:pt x="7447" y="8022"/>
                  <a:pt x="7367" y="8111"/>
                </a:cubicBezTo>
                <a:cubicBezTo>
                  <a:pt x="7419" y="8097"/>
                  <a:pt x="7687" y="8035"/>
                  <a:pt x="7615" y="8186"/>
                </a:cubicBezTo>
                <a:cubicBezTo>
                  <a:pt x="7568" y="8285"/>
                  <a:pt x="7432" y="8321"/>
                  <a:pt x="7342" y="8359"/>
                </a:cubicBezTo>
              </a:path>
              <a:path w="4813" h="1241">
                <a:moveTo>
                  <a:pt x="7714" y="8359"/>
                </a:moveTo>
                <a:cubicBezTo>
                  <a:pt x="7695" y="8451"/>
                  <a:pt x="7674" y="8540"/>
                  <a:pt x="7665" y="8632"/>
                </a:cubicBezTo>
              </a:path>
              <a:path w="4813" h="1241">
                <a:moveTo>
                  <a:pt x="8111" y="7938"/>
                </a:moveTo>
                <a:cubicBezTo>
                  <a:pt x="8124" y="8016"/>
                  <a:pt x="8148" y="8087"/>
                  <a:pt x="8235" y="8111"/>
                </a:cubicBezTo>
                <a:cubicBezTo>
                  <a:pt x="8348" y="8142"/>
                  <a:pt x="8378" y="7988"/>
                  <a:pt x="8384" y="7913"/>
                </a:cubicBezTo>
                <a:cubicBezTo>
                  <a:pt x="8392" y="7814"/>
                  <a:pt x="8384" y="8062"/>
                  <a:pt x="8384" y="8161"/>
                </a:cubicBezTo>
                <a:cubicBezTo>
                  <a:pt x="8384" y="8336"/>
                  <a:pt x="8308" y="8462"/>
                  <a:pt x="8483" y="8434"/>
                </a:cubicBezTo>
              </a:path>
              <a:path w="4813" h="1241">
                <a:moveTo>
                  <a:pt x="8657" y="8409"/>
                </a:moveTo>
                <a:cubicBezTo>
                  <a:pt x="8632" y="8482"/>
                  <a:pt x="8624" y="8506"/>
                  <a:pt x="8632" y="8558"/>
                </a:cubicBezTo>
              </a:path>
              <a:path w="4813" h="1241">
                <a:moveTo>
                  <a:pt x="8880" y="7938"/>
                </a:moveTo>
                <a:cubicBezTo>
                  <a:pt x="8844" y="8081"/>
                  <a:pt x="8933" y="8018"/>
                  <a:pt x="9029" y="8086"/>
                </a:cubicBezTo>
                <a:cubicBezTo>
                  <a:pt x="9210" y="8214"/>
                  <a:pt x="9040" y="8242"/>
                  <a:pt x="8930" y="8235"/>
                </a:cubicBezTo>
              </a:path>
              <a:path w="4813" h="1241">
                <a:moveTo>
                  <a:pt x="9029" y="7863"/>
                </a:moveTo>
                <a:cubicBezTo>
                  <a:pt x="9111" y="7835"/>
                  <a:pt x="9144" y="7829"/>
                  <a:pt x="9203" y="7863"/>
                </a:cubicBezTo>
              </a:path>
              <a:path w="4813" h="1241">
                <a:moveTo>
                  <a:pt x="9475" y="8334"/>
                </a:moveTo>
                <a:cubicBezTo>
                  <a:pt x="9453" y="8446"/>
                  <a:pt x="9452" y="8477"/>
                  <a:pt x="9401" y="8533"/>
                </a:cubicBezTo>
              </a:path>
              <a:path w="4813" h="1241">
                <a:moveTo>
                  <a:pt x="9823" y="7838"/>
                </a:moveTo>
                <a:cubicBezTo>
                  <a:pt x="9802" y="7945"/>
                  <a:pt x="9798" y="8046"/>
                  <a:pt x="9798" y="8161"/>
                </a:cubicBezTo>
                <a:cubicBezTo>
                  <a:pt x="9798" y="8267"/>
                  <a:pt x="9791" y="8423"/>
                  <a:pt x="9947" y="8384"/>
                </a:cubicBezTo>
                <a:cubicBezTo>
                  <a:pt x="10064" y="8337"/>
                  <a:pt x="10098" y="8324"/>
                  <a:pt x="10170" y="8285"/>
                </a:cubicBezTo>
                <a:cubicBezTo>
                  <a:pt x="10111" y="8358"/>
                  <a:pt x="9904" y="8465"/>
                  <a:pt x="9996" y="8483"/>
                </a:cubicBezTo>
                <a:cubicBezTo>
                  <a:pt x="10021" y="8475"/>
                  <a:pt x="10046" y="8466"/>
                  <a:pt x="10071" y="845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06880" y="2384280"/>
            <a:ext cx="1528920" cy="1009800"/>
          </a:xfrm>
          <a:custGeom>
            <a:avLst/>
            <a:gdLst/>
            <a:ahLst/>
            <a:rect l="l" t="t" r="r" b="b"/>
            <a:pathLst>
              <a:path w="4243" h="2804">
                <a:moveTo>
                  <a:pt x="11633" y="7491"/>
                </a:moveTo>
                <a:cubicBezTo>
                  <a:pt x="11684" y="7453"/>
                  <a:pt x="11838" y="7448"/>
                  <a:pt x="11931" y="7441"/>
                </a:cubicBezTo>
              </a:path>
              <a:path w="4243" h="2804">
                <a:moveTo>
                  <a:pt x="11559" y="7813"/>
                </a:moveTo>
                <a:cubicBezTo>
                  <a:pt x="11741" y="7813"/>
                  <a:pt x="11824" y="7810"/>
                  <a:pt x="11956" y="7789"/>
                </a:cubicBezTo>
              </a:path>
              <a:path w="4243" h="2804">
                <a:moveTo>
                  <a:pt x="13196" y="7689"/>
                </a:moveTo>
                <a:cubicBezTo>
                  <a:pt x="13179" y="7821"/>
                  <a:pt x="13135" y="7953"/>
                  <a:pt x="13122" y="8086"/>
                </a:cubicBezTo>
                <a:cubicBezTo>
                  <a:pt x="13110" y="8213"/>
                  <a:pt x="13222" y="8279"/>
                  <a:pt x="13345" y="8210"/>
                </a:cubicBezTo>
                <a:cubicBezTo>
                  <a:pt x="13408" y="8174"/>
                  <a:pt x="13449" y="8098"/>
                  <a:pt x="13469" y="8037"/>
                </a:cubicBezTo>
                <a:cubicBezTo>
                  <a:pt x="13331" y="8058"/>
                  <a:pt x="13275" y="8092"/>
                  <a:pt x="13196" y="8210"/>
                </a:cubicBezTo>
              </a:path>
              <a:path w="4243" h="2804">
                <a:moveTo>
                  <a:pt x="13022" y="7491"/>
                </a:moveTo>
                <a:cubicBezTo>
                  <a:pt x="13201" y="7506"/>
                  <a:pt x="13387" y="7537"/>
                  <a:pt x="13568" y="7516"/>
                </a:cubicBezTo>
                <a:cubicBezTo>
                  <a:pt x="13593" y="7508"/>
                  <a:pt x="13618" y="7499"/>
                  <a:pt x="13643" y="7491"/>
                </a:cubicBezTo>
              </a:path>
              <a:path w="4243" h="2804">
                <a:moveTo>
                  <a:pt x="11410" y="6747"/>
                </a:moveTo>
                <a:lnTo>
                  <a:pt x="11410" y="6747"/>
                </a:lnTo>
              </a:path>
              <a:path w="4243" h="2804">
                <a:moveTo>
                  <a:pt x="12799" y="9401"/>
                </a:moveTo>
                <a:cubicBezTo>
                  <a:pt x="12799" y="9409"/>
                  <a:pt x="12799" y="9418"/>
                  <a:pt x="12799" y="9426"/>
                </a:cubicBezTo>
              </a:path>
              <a:path w="4243" h="2804">
                <a:moveTo>
                  <a:pt x="15379" y="6623"/>
                </a:moveTo>
                <a:cubicBezTo>
                  <a:pt x="15436" y="6642"/>
                  <a:pt x="15357" y="6876"/>
                  <a:pt x="15354" y="6921"/>
                </a:cubicBezTo>
                <a:cubicBezTo>
                  <a:pt x="15346" y="7029"/>
                  <a:pt x="15329" y="7135"/>
                  <a:pt x="15329" y="7243"/>
                </a:cubicBezTo>
              </a:path>
              <a:path w="4243" h="2804">
                <a:moveTo>
                  <a:pt x="14858" y="7665"/>
                </a:moveTo>
                <a:cubicBezTo>
                  <a:pt x="15086" y="7592"/>
                  <a:pt x="15296" y="7551"/>
                  <a:pt x="15528" y="7516"/>
                </a:cubicBezTo>
                <a:cubicBezTo>
                  <a:pt x="15602" y="7497"/>
                  <a:pt x="15609" y="7489"/>
                  <a:pt x="15652" y="7491"/>
                </a:cubicBezTo>
              </a:path>
              <a:path w="4243" h="2804">
                <a:moveTo>
                  <a:pt x="14932" y="8062"/>
                </a:moveTo>
                <a:cubicBezTo>
                  <a:pt x="15059" y="8020"/>
                  <a:pt x="15159" y="7955"/>
                  <a:pt x="15304" y="7938"/>
                </a:cubicBezTo>
                <a:cubicBezTo>
                  <a:pt x="15389" y="7938"/>
                  <a:pt x="15409" y="7931"/>
                  <a:pt x="15453" y="7962"/>
                </a:cubicBezTo>
                <a:cubicBezTo>
                  <a:pt x="15355" y="8133"/>
                  <a:pt x="15168" y="8235"/>
                  <a:pt x="15007" y="8359"/>
                </a:cubicBezTo>
                <a:cubicBezTo>
                  <a:pt x="14901" y="8444"/>
                  <a:pt x="14879" y="8464"/>
                  <a:pt x="14808" y="8508"/>
                </a:cubicBezTo>
                <a:cubicBezTo>
                  <a:pt x="14975" y="8432"/>
                  <a:pt x="15152" y="8383"/>
                  <a:pt x="15329" y="8334"/>
                </a:cubicBezTo>
                <a:cubicBezTo>
                  <a:pt x="15403" y="8316"/>
                  <a:pt x="15410" y="8308"/>
                  <a:pt x="15453" y="831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33720" y="2482920"/>
            <a:ext cx="795240" cy="241200"/>
          </a:xfrm>
          <a:custGeom>
            <a:avLst/>
            <a:gdLst/>
            <a:ahLst/>
            <a:rect l="l" t="t" r="r" b="b"/>
            <a:pathLst>
              <a:path w="2209" h="670">
                <a:moveTo>
                  <a:pt x="6474" y="7069"/>
                </a:moveTo>
                <a:cubicBezTo>
                  <a:pt x="6432" y="7069"/>
                  <a:pt x="6416" y="7061"/>
                  <a:pt x="6424" y="7094"/>
                </a:cubicBezTo>
                <a:cubicBezTo>
                  <a:pt x="6412" y="7043"/>
                  <a:pt x="6406" y="6959"/>
                  <a:pt x="6499" y="6970"/>
                </a:cubicBezTo>
                <a:cubicBezTo>
                  <a:pt x="6735" y="6998"/>
                  <a:pt x="6390" y="7315"/>
                  <a:pt x="6350" y="7342"/>
                </a:cubicBezTo>
                <a:cubicBezTo>
                  <a:pt x="6179" y="7457"/>
                  <a:pt x="6107" y="7451"/>
                  <a:pt x="5928" y="7417"/>
                </a:cubicBezTo>
                <a:cubicBezTo>
                  <a:pt x="6033" y="7259"/>
                  <a:pt x="6137" y="7213"/>
                  <a:pt x="6325" y="7293"/>
                </a:cubicBezTo>
                <a:cubicBezTo>
                  <a:pt x="6420" y="7333"/>
                  <a:pt x="6415" y="7379"/>
                  <a:pt x="6424" y="7466"/>
                </a:cubicBezTo>
              </a:path>
              <a:path w="2209" h="670">
                <a:moveTo>
                  <a:pt x="6697" y="7441"/>
                </a:moveTo>
                <a:cubicBezTo>
                  <a:pt x="6697" y="7509"/>
                  <a:pt x="6694" y="7528"/>
                  <a:pt x="6722" y="7565"/>
                </a:cubicBezTo>
              </a:path>
              <a:path w="2209" h="670">
                <a:moveTo>
                  <a:pt x="7020" y="6970"/>
                </a:moveTo>
                <a:cubicBezTo>
                  <a:pt x="7015" y="7013"/>
                  <a:pt x="6952" y="7157"/>
                  <a:pt x="7045" y="7169"/>
                </a:cubicBezTo>
                <a:cubicBezTo>
                  <a:pt x="7115" y="7134"/>
                  <a:pt x="7149" y="7111"/>
                  <a:pt x="7193" y="7069"/>
                </a:cubicBezTo>
              </a:path>
              <a:path w="2209" h="670">
                <a:moveTo>
                  <a:pt x="7293" y="6896"/>
                </a:moveTo>
                <a:cubicBezTo>
                  <a:pt x="7235" y="7068"/>
                  <a:pt x="7194" y="7214"/>
                  <a:pt x="7218" y="7392"/>
                </a:cubicBezTo>
              </a:path>
              <a:path w="2209" h="670">
                <a:moveTo>
                  <a:pt x="7441" y="7317"/>
                </a:moveTo>
                <a:cubicBezTo>
                  <a:pt x="7394" y="7413"/>
                  <a:pt x="7377" y="7443"/>
                  <a:pt x="7392" y="7516"/>
                </a:cubicBezTo>
              </a:path>
              <a:path w="2209" h="670">
                <a:moveTo>
                  <a:pt x="7838" y="6896"/>
                </a:moveTo>
                <a:cubicBezTo>
                  <a:pt x="7796" y="6980"/>
                  <a:pt x="7730" y="7165"/>
                  <a:pt x="7764" y="7268"/>
                </a:cubicBezTo>
                <a:cubicBezTo>
                  <a:pt x="7810" y="7408"/>
                  <a:pt x="8038" y="7281"/>
                  <a:pt x="8086" y="7218"/>
                </a:cubicBezTo>
                <a:cubicBezTo>
                  <a:pt x="8137" y="7152"/>
                  <a:pt x="8159" y="7101"/>
                  <a:pt x="8111" y="7069"/>
                </a:cubicBezTo>
                <a:cubicBezTo>
                  <a:pt x="7982" y="7166"/>
                  <a:pt x="7925" y="7208"/>
                  <a:pt x="7938" y="736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05200" y="2438280"/>
            <a:ext cx="189000" cy="187560"/>
          </a:xfrm>
          <a:custGeom>
            <a:avLst/>
            <a:gdLst/>
            <a:ahLst/>
            <a:rect l="l" t="t" r="r" b="b"/>
            <a:pathLst>
              <a:path w="522" h="522">
                <a:moveTo>
                  <a:pt x="13246" y="6896"/>
                </a:moveTo>
                <a:cubicBezTo>
                  <a:pt x="13256" y="6867"/>
                  <a:pt x="13329" y="6812"/>
                  <a:pt x="13370" y="6796"/>
                </a:cubicBezTo>
                <a:cubicBezTo>
                  <a:pt x="13460" y="6760"/>
                  <a:pt x="13510" y="6769"/>
                  <a:pt x="13593" y="6796"/>
                </a:cubicBezTo>
                <a:cubicBezTo>
                  <a:pt x="13519" y="6908"/>
                  <a:pt x="13433" y="6950"/>
                  <a:pt x="13320" y="7020"/>
                </a:cubicBezTo>
                <a:cubicBezTo>
                  <a:pt x="13278" y="7020"/>
                  <a:pt x="13389" y="6992"/>
                  <a:pt x="13444" y="7020"/>
                </a:cubicBezTo>
                <a:cubicBezTo>
                  <a:pt x="13635" y="7118"/>
                  <a:pt x="13365" y="7270"/>
                  <a:pt x="13271" y="7293"/>
                </a:cubicBezTo>
                <a:cubicBezTo>
                  <a:pt x="13189" y="7313"/>
                  <a:pt x="13134" y="7284"/>
                  <a:pt x="13072" y="724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062680" y="2652840"/>
            <a:ext cx="161640" cy="71280"/>
          </a:xfrm>
          <a:custGeom>
            <a:avLst/>
            <a:gdLst/>
            <a:ahLst/>
            <a:rect l="l" t="t" r="r" b="b"/>
            <a:pathLst>
              <a:path w="448" h="199">
                <a:moveTo>
                  <a:pt x="14064" y="7392"/>
                </a:moveTo>
                <a:cubicBezTo>
                  <a:pt x="14184" y="7377"/>
                  <a:pt x="14313" y="7348"/>
                  <a:pt x="14436" y="7367"/>
                </a:cubicBezTo>
                <a:cubicBezTo>
                  <a:pt x="14461" y="7375"/>
                  <a:pt x="14486" y="7384"/>
                  <a:pt x="14511" y="7392"/>
                </a:cubicBezTo>
              </a:path>
              <a:path w="448" h="199">
                <a:moveTo>
                  <a:pt x="14139" y="7565"/>
                </a:moveTo>
                <a:cubicBezTo>
                  <a:pt x="14279" y="7542"/>
                  <a:pt x="14320" y="7534"/>
                  <a:pt x="14412" y="754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98720" y="6491160"/>
            <a:ext cx="9360" cy="19080"/>
          </a:xfrm>
          <a:custGeom>
            <a:avLst/>
            <a:gdLst/>
            <a:ahLst/>
            <a:rect l="l" t="t" r="r" b="b"/>
            <a:pathLst>
              <a:path w="26" h="51">
                <a:moveTo>
                  <a:pt x="3076" y="18033"/>
                </a:moveTo>
                <a:cubicBezTo>
                  <a:pt x="3076" y="18061"/>
                  <a:pt x="3074" y="18072"/>
                  <a:pt x="3051" y="1808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identify the probability of an event as a decimal, fraction and perc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ng your resul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you get your results as a fraction you can express them as a decimal or as a percent. Lets practic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) The probability of an event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this to a decimal and then to a percen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629400" y="3352680"/>
          <a:ext cx="444600" cy="7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3352680"/>
                    <a:ext cx="44460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ive:  Students will identify the probability of an event as a decimal, fraction and perc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ndsey is practicing her basketball shooting. She took 25 practice shots and her results are listed bel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de Missed Missed Made Made Missed Made Made Missd Missed Missed Made Made Made Made Made Missed Made Missed Made Made Made Missed Made Mi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d on the results, what is the experimental probability she will make the next sho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43280" y="1973160"/>
            <a:ext cx="492120" cy="642960"/>
          </a:xfrm>
          <a:custGeom>
            <a:avLst/>
            <a:gdLst/>
            <a:ahLst/>
            <a:rect l="l" t="t" r="r" b="b"/>
            <a:pathLst>
              <a:path w="1366" h="1787">
                <a:moveTo>
                  <a:pt x="12898" y="6474"/>
                </a:moveTo>
                <a:cubicBezTo>
                  <a:pt x="12921" y="6443"/>
                  <a:pt x="12944" y="6414"/>
                  <a:pt x="12948" y="6375"/>
                </a:cubicBezTo>
                <a:cubicBezTo>
                  <a:pt x="12954" y="6325"/>
                  <a:pt x="12942" y="6316"/>
                  <a:pt x="12973" y="6276"/>
                </a:cubicBezTo>
                <a:cubicBezTo>
                  <a:pt x="13058" y="6327"/>
                  <a:pt x="13114" y="6435"/>
                  <a:pt x="13171" y="6524"/>
                </a:cubicBezTo>
                <a:cubicBezTo>
                  <a:pt x="13211" y="6583"/>
                  <a:pt x="13215" y="6595"/>
                  <a:pt x="13246" y="6623"/>
                </a:cubicBezTo>
              </a:path>
              <a:path w="1366" h="1787">
                <a:moveTo>
                  <a:pt x="13320" y="6176"/>
                </a:moveTo>
                <a:cubicBezTo>
                  <a:pt x="13246" y="6323"/>
                  <a:pt x="13191" y="6474"/>
                  <a:pt x="13122" y="6623"/>
                </a:cubicBezTo>
                <a:cubicBezTo>
                  <a:pt x="13102" y="6663"/>
                  <a:pt x="13093" y="6689"/>
                  <a:pt x="13097" y="6648"/>
                </a:cubicBezTo>
              </a:path>
              <a:path w="1366" h="1787">
                <a:moveTo>
                  <a:pt x="13816" y="6672"/>
                </a:moveTo>
                <a:cubicBezTo>
                  <a:pt x="13816" y="6623"/>
                  <a:pt x="13824" y="6723"/>
                  <a:pt x="13816" y="6772"/>
                </a:cubicBezTo>
                <a:cubicBezTo>
                  <a:pt x="13807" y="6826"/>
                  <a:pt x="13752" y="6917"/>
                  <a:pt x="13841" y="6921"/>
                </a:cubicBezTo>
                <a:cubicBezTo>
                  <a:pt x="13961" y="6926"/>
                  <a:pt x="14016" y="6882"/>
                  <a:pt x="14114" y="6821"/>
                </a:cubicBezTo>
              </a:path>
              <a:path w="1366" h="1787">
                <a:moveTo>
                  <a:pt x="14114" y="6573"/>
                </a:moveTo>
                <a:cubicBezTo>
                  <a:pt x="14114" y="6783"/>
                  <a:pt x="14120" y="6987"/>
                  <a:pt x="14139" y="7193"/>
                </a:cubicBezTo>
                <a:cubicBezTo>
                  <a:pt x="14139" y="7218"/>
                  <a:pt x="14139" y="7243"/>
                  <a:pt x="14139" y="7268"/>
                </a:cubicBezTo>
              </a:path>
              <a:path w="1366" h="1787">
                <a:moveTo>
                  <a:pt x="13618" y="6474"/>
                </a:moveTo>
                <a:cubicBezTo>
                  <a:pt x="13770" y="6455"/>
                  <a:pt x="13918" y="6426"/>
                  <a:pt x="14064" y="6375"/>
                </a:cubicBezTo>
                <a:cubicBezTo>
                  <a:pt x="14176" y="6336"/>
                  <a:pt x="14181" y="6301"/>
                  <a:pt x="14263" y="6350"/>
                </a:cubicBezTo>
              </a:path>
              <a:path w="1366" h="1787">
                <a:moveTo>
                  <a:pt x="13692" y="5655"/>
                </a:moveTo>
                <a:cubicBezTo>
                  <a:pt x="13692" y="5763"/>
                  <a:pt x="13692" y="5870"/>
                  <a:pt x="13692" y="5978"/>
                </a:cubicBezTo>
                <a:cubicBezTo>
                  <a:pt x="13810" y="5978"/>
                  <a:pt x="13869" y="5919"/>
                  <a:pt x="13965" y="5854"/>
                </a:cubicBezTo>
                <a:cubicBezTo>
                  <a:pt x="14030" y="5810"/>
                  <a:pt x="14049" y="5804"/>
                  <a:pt x="14064" y="5755"/>
                </a:cubicBezTo>
              </a:path>
              <a:path w="1366" h="1787">
                <a:moveTo>
                  <a:pt x="13965" y="5482"/>
                </a:moveTo>
                <a:cubicBezTo>
                  <a:pt x="13965" y="5741"/>
                  <a:pt x="13969" y="5995"/>
                  <a:pt x="13990" y="6251"/>
                </a:cubicBezTo>
                <a:cubicBezTo>
                  <a:pt x="13990" y="6276"/>
                  <a:pt x="13990" y="6300"/>
                  <a:pt x="13990" y="632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545080" y="2303640"/>
            <a:ext cx="169920" cy="107640"/>
          </a:xfrm>
          <a:custGeom>
            <a:avLst/>
            <a:gdLst/>
            <a:ahLst/>
            <a:rect l="l" t="t" r="r" b="b"/>
            <a:pathLst>
              <a:path w="472" h="298">
                <a:moveTo>
                  <a:pt x="15478" y="6449"/>
                </a:moveTo>
                <a:cubicBezTo>
                  <a:pt x="15566" y="6431"/>
                  <a:pt x="15658" y="6409"/>
                  <a:pt x="15751" y="6400"/>
                </a:cubicBezTo>
                <a:cubicBezTo>
                  <a:pt x="15776" y="6400"/>
                  <a:pt x="15800" y="6400"/>
                  <a:pt x="15825" y="6400"/>
                </a:cubicBezTo>
              </a:path>
              <a:path w="472" h="298">
                <a:moveTo>
                  <a:pt x="15404" y="6697"/>
                </a:moveTo>
                <a:cubicBezTo>
                  <a:pt x="15561" y="6674"/>
                  <a:pt x="15717" y="6659"/>
                  <a:pt x="15875" y="664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919840" y="1839960"/>
            <a:ext cx="2332080" cy="1027080"/>
          </a:xfrm>
          <a:custGeom>
            <a:avLst/>
            <a:gdLst/>
            <a:ahLst/>
            <a:rect l="l" t="t" r="r" b="b"/>
            <a:pathLst>
              <a:path w="6475" h="2853">
                <a:moveTo>
                  <a:pt x="16669" y="6796"/>
                </a:moveTo>
                <a:cubicBezTo>
                  <a:pt x="16648" y="7002"/>
                  <a:pt x="16607" y="7210"/>
                  <a:pt x="16594" y="7417"/>
                </a:cubicBezTo>
                <a:cubicBezTo>
                  <a:pt x="16594" y="7532"/>
                  <a:pt x="16594" y="7549"/>
                  <a:pt x="16594" y="7615"/>
                </a:cubicBezTo>
              </a:path>
              <a:path w="6475" h="2853">
                <a:moveTo>
                  <a:pt x="17165" y="6871"/>
                </a:moveTo>
                <a:cubicBezTo>
                  <a:pt x="17083" y="7008"/>
                  <a:pt x="16972" y="7169"/>
                  <a:pt x="16991" y="7342"/>
                </a:cubicBezTo>
                <a:cubicBezTo>
                  <a:pt x="17008" y="7375"/>
                  <a:pt x="17024" y="7408"/>
                  <a:pt x="17041" y="7441"/>
                </a:cubicBezTo>
                <a:cubicBezTo>
                  <a:pt x="17213" y="7491"/>
                  <a:pt x="17409" y="7406"/>
                  <a:pt x="17413" y="7169"/>
                </a:cubicBezTo>
                <a:cubicBezTo>
                  <a:pt x="17418" y="6895"/>
                  <a:pt x="17208" y="6893"/>
                  <a:pt x="17041" y="6995"/>
                </a:cubicBezTo>
                <a:cubicBezTo>
                  <a:pt x="17033" y="7003"/>
                  <a:pt x="17024" y="7012"/>
                  <a:pt x="17016" y="7020"/>
                </a:cubicBezTo>
              </a:path>
              <a:path w="6475" h="2853">
                <a:moveTo>
                  <a:pt x="17686" y="6821"/>
                </a:moveTo>
                <a:cubicBezTo>
                  <a:pt x="17538" y="7079"/>
                  <a:pt x="17453" y="7191"/>
                  <a:pt x="17611" y="7441"/>
                </a:cubicBezTo>
                <a:cubicBezTo>
                  <a:pt x="17838" y="7414"/>
                  <a:pt x="18120" y="7366"/>
                  <a:pt x="18132" y="7069"/>
                </a:cubicBezTo>
                <a:cubicBezTo>
                  <a:pt x="18141" y="6834"/>
                  <a:pt x="17870" y="6864"/>
                  <a:pt x="17735" y="6846"/>
                </a:cubicBezTo>
              </a:path>
              <a:path w="6475" h="2853">
                <a:moveTo>
                  <a:pt x="16446" y="6821"/>
                </a:moveTo>
                <a:cubicBezTo>
                  <a:pt x="16629" y="6752"/>
                  <a:pt x="16843" y="6687"/>
                  <a:pt x="17041" y="6648"/>
                </a:cubicBezTo>
                <a:cubicBezTo>
                  <a:pt x="17277" y="6602"/>
                  <a:pt x="17665" y="6503"/>
                  <a:pt x="17909" y="6548"/>
                </a:cubicBezTo>
                <a:cubicBezTo>
                  <a:pt x="17971" y="6559"/>
                  <a:pt x="17910" y="6586"/>
                  <a:pt x="17884" y="6623"/>
                </a:cubicBezTo>
              </a:path>
              <a:path w="6475" h="2853">
                <a:moveTo>
                  <a:pt x="21506" y="5184"/>
                </a:moveTo>
                <a:cubicBezTo>
                  <a:pt x="21545" y="5403"/>
                  <a:pt x="21555" y="5606"/>
                  <a:pt x="21555" y="5829"/>
                </a:cubicBezTo>
                <a:cubicBezTo>
                  <a:pt x="21555" y="5904"/>
                  <a:pt x="21555" y="6028"/>
                  <a:pt x="21555" y="5953"/>
                </a:cubicBezTo>
              </a:path>
              <a:path w="6475" h="2853">
                <a:moveTo>
                  <a:pt x="22399" y="5184"/>
                </a:moveTo>
                <a:cubicBezTo>
                  <a:pt x="22311" y="5199"/>
                  <a:pt x="22212" y="5215"/>
                  <a:pt x="22126" y="5234"/>
                </a:cubicBezTo>
                <a:cubicBezTo>
                  <a:pt x="22059" y="5248"/>
                  <a:pt x="22025" y="5253"/>
                  <a:pt x="22002" y="5308"/>
                </a:cubicBezTo>
                <a:cubicBezTo>
                  <a:pt x="21965" y="5395"/>
                  <a:pt x="21977" y="5448"/>
                  <a:pt x="22002" y="5531"/>
                </a:cubicBezTo>
                <a:cubicBezTo>
                  <a:pt x="22136" y="5509"/>
                  <a:pt x="22259" y="5432"/>
                  <a:pt x="22399" y="5432"/>
                </a:cubicBezTo>
                <a:cubicBezTo>
                  <a:pt x="22601" y="5432"/>
                  <a:pt x="22560" y="5660"/>
                  <a:pt x="22448" y="5755"/>
                </a:cubicBezTo>
                <a:cubicBezTo>
                  <a:pt x="22321" y="5863"/>
                  <a:pt x="22117" y="5915"/>
                  <a:pt x="22002" y="5829"/>
                </a:cubicBezTo>
              </a:path>
              <a:path w="6475" h="2853">
                <a:moveTo>
                  <a:pt x="21059" y="6499"/>
                </a:moveTo>
                <a:cubicBezTo>
                  <a:pt x="21211" y="6575"/>
                  <a:pt x="21347" y="6686"/>
                  <a:pt x="21481" y="6796"/>
                </a:cubicBezTo>
                <a:cubicBezTo>
                  <a:pt x="21504" y="6819"/>
                  <a:pt x="21515" y="6827"/>
                  <a:pt x="21481" y="6821"/>
                </a:cubicBezTo>
              </a:path>
              <a:path w="6475" h="2853">
                <a:moveTo>
                  <a:pt x="21431" y="6400"/>
                </a:moveTo>
                <a:cubicBezTo>
                  <a:pt x="21371" y="6573"/>
                  <a:pt x="21318" y="6750"/>
                  <a:pt x="21258" y="6921"/>
                </a:cubicBezTo>
              </a:path>
              <a:path w="6475" h="2853">
                <a:moveTo>
                  <a:pt x="22200" y="6325"/>
                </a:moveTo>
                <a:cubicBezTo>
                  <a:pt x="22244" y="6470"/>
                  <a:pt x="22285" y="6436"/>
                  <a:pt x="22423" y="6375"/>
                </a:cubicBezTo>
                <a:cubicBezTo>
                  <a:pt x="22516" y="6328"/>
                  <a:pt x="22545" y="6318"/>
                  <a:pt x="22572" y="6251"/>
                </a:cubicBezTo>
              </a:path>
              <a:path w="6475" h="2853">
                <a:moveTo>
                  <a:pt x="22423" y="6127"/>
                </a:moveTo>
                <a:cubicBezTo>
                  <a:pt x="22403" y="6326"/>
                  <a:pt x="22409" y="6526"/>
                  <a:pt x="22374" y="6722"/>
                </a:cubicBezTo>
              </a:path>
              <a:path w="6475" h="2853">
                <a:moveTo>
                  <a:pt x="21183" y="7193"/>
                </a:moveTo>
                <a:cubicBezTo>
                  <a:pt x="21554" y="7082"/>
                  <a:pt x="21925" y="6970"/>
                  <a:pt x="22299" y="6871"/>
                </a:cubicBezTo>
                <a:cubicBezTo>
                  <a:pt x="22439" y="6834"/>
                  <a:pt x="22578" y="6808"/>
                  <a:pt x="22721" y="6796"/>
                </a:cubicBezTo>
              </a:path>
              <a:path w="6475" h="2853">
                <a:moveTo>
                  <a:pt x="22622" y="7169"/>
                </a:moveTo>
                <a:cubicBezTo>
                  <a:pt x="22604" y="7114"/>
                  <a:pt x="22586" y="7156"/>
                  <a:pt x="22547" y="7169"/>
                </a:cubicBezTo>
                <a:cubicBezTo>
                  <a:pt x="22476" y="7193"/>
                  <a:pt x="22474" y="7232"/>
                  <a:pt x="22448" y="7293"/>
                </a:cubicBezTo>
                <a:cubicBezTo>
                  <a:pt x="22378" y="7457"/>
                  <a:pt x="22411" y="7567"/>
                  <a:pt x="22523" y="7689"/>
                </a:cubicBezTo>
                <a:cubicBezTo>
                  <a:pt x="22694" y="7629"/>
                  <a:pt x="22849" y="7552"/>
                  <a:pt x="22920" y="7367"/>
                </a:cubicBezTo>
                <a:cubicBezTo>
                  <a:pt x="22978" y="7216"/>
                  <a:pt x="22749" y="7197"/>
                  <a:pt x="22671" y="7193"/>
                </a:cubicBezTo>
                <a:cubicBezTo>
                  <a:pt x="22558" y="7187"/>
                  <a:pt x="22489" y="7297"/>
                  <a:pt x="22473" y="7218"/>
                </a:cubicBezTo>
              </a:path>
              <a:path w="6475" h="2853">
                <a:moveTo>
                  <a:pt x="20786" y="5110"/>
                </a:moveTo>
                <a:cubicBezTo>
                  <a:pt x="20786" y="5214"/>
                  <a:pt x="20793" y="5169"/>
                  <a:pt x="20861" y="5159"/>
                </a:cubicBezTo>
                <a:cubicBezTo>
                  <a:pt x="21021" y="5135"/>
                  <a:pt x="21076" y="5306"/>
                  <a:pt x="21010" y="5432"/>
                </a:cubicBezTo>
                <a:cubicBezTo>
                  <a:pt x="20927" y="5590"/>
                  <a:pt x="20785" y="5704"/>
                  <a:pt x="20638" y="5631"/>
                </a:cubicBezTo>
                <a:cubicBezTo>
                  <a:pt x="20695" y="5492"/>
                  <a:pt x="20743" y="5435"/>
                  <a:pt x="20910" y="5457"/>
                </a:cubicBezTo>
                <a:cubicBezTo>
                  <a:pt x="21000" y="5469"/>
                  <a:pt x="21015" y="5489"/>
                  <a:pt x="21034" y="5556"/>
                </a:cubicBezTo>
              </a:path>
              <a:path w="6475" h="2853">
                <a:moveTo>
                  <a:pt x="21704" y="7367"/>
                </a:moveTo>
                <a:cubicBezTo>
                  <a:pt x="21704" y="7347"/>
                  <a:pt x="21720" y="7264"/>
                  <a:pt x="21704" y="7317"/>
                </a:cubicBezTo>
                <a:cubicBezTo>
                  <a:pt x="21650" y="7501"/>
                  <a:pt x="21614" y="7699"/>
                  <a:pt x="21654" y="7888"/>
                </a:cubicBezTo>
                <a:cubicBezTo>
                  <a:pt x="21682" y="8019"/>
                  <a:pt x="21865" y="7932"/>
                  <a:pt x="21927" y="7888"/>
                </a:cubicBezTo>
                <a:cubicBezTo>
                  <a:pt x="22055" y="7797"/>
                  <a:pt x="22099" y="7704"/>
                  <a:pt x="22076" y="7565"/>
                </a:cubicBezTo>
                <a:cubicBezTo>
                  <a:pt x="21938" y="7588"/>
                  <a:pt x="21858" y="7638"/>
                  <a:pt x="21828" y="7789"/>
                </a:cubicBezTo>
                <a:cubicBezTo>
                  <a:pt x="21828" y="7814"/>
                  <a:pt x="21828" y="7838"/>
                  <a:pt x="21828" y="7863"/>
                </a:cubicBezTo>
              </a:path>
              <a:path w="6475" h="2853">
                <a:moveTo>
                  <a:pt x="16917" y="5705"/>
                </a:moveTo>
                <a:cubicBezTo>
                  <a:pt x="16974" y="5724"/>
                  <a:pt x="16924" y="5772"/>
                  <a:pt x="16917" y="5829"/>
                </a:cubicBezTo>
                <a:cubicBezTo>
                  <a:pt x="16901" y="5962"/>
                  <a:pt x="16871" y="6091"/>
                  <a:pt x="16867" y="6226"/>
                </a:cubicBezTo>
                <a:cubicBezTo>
                  <a:pt x="16864" y="6335"/>
                  <a:pt x="16870" y="6470"/>
                  <a:pt x="16991" y="6499"/>
                </a:cubicBezTo>
                <a:cubicBezTo>
                  <a:pt x="17175" y="6543"/>
                  <a:pt x="17344" y="6373"/>
                  <a:pt x="17413" y="6226"/>
                </a:cubicBezTo>
                <a:cubicBezTo>
                  <a:pt x="17451" y="6145"/>
                  <a:pt x="17432" y="6118"/>
                  <a:pt x="17388" y="6052"/>
                </a:cubicBezTo>
                <a:cubicBezTo>
                  <a:pt x="17236" y="6129"/>
                  <a:pt x="17210" y="6209"/>
                  <a:pt x="17165" y="6375"/>
                </a:cubicBezTo>
                <a:cubicBezTo>
                  <a:pt x="17144" y="6459"/>
                  <a:pt x="17122" y="6499"/>
                  <a:pt x="17190" y="6449"/>
                </a:cubicBezTo>
              </a:path>
              <a:path w="6475" h="2853">
                <a:moveTo>
                  <a:pt x="17760" y="5457"/>
                </a:moveTo>
                <a:cubicBezTo>
                  <a:pt x="17655" y="5520"/>
                  <a:pt x="17606" y="5731"/>
                  <a:pt x="17587" y="5854"/>
                </a:cubicBezTo>
                <a:cubicBezTo>
                  <a:pt x="17568" y="5979"/>
                  <a:pt x="17588" y="6168"/>
                  <a:pt x="17760" y="6127"/>
                </a:cubicBezTo>
                <a:cubicBezTo>
                  <a:pt x="17975" y="6076"/>
                  <a:pt x="18031" y="5833"/>
                  <a:pt x="18008" y="5655"/>
                </a:cubicBezTo>
                <a:cubicBezTo>
                  <a:pt x="17990" y="5519"/>
                  <a:pt x="17807" y="5452"/>
                  <a:pt x="17686" y="5482"/>
                </a:cubicBezTo>
                <a:cubicBezTo>
                  <a:pt x="17653" y="5498"/>
                  <a:pt x="17620" y="5515"/>
                  <a:pt x="17587" y="5531"/>
                </a:cubicBezTo>
              </a:path>
              <a:path w="6475" h="2853">
                <a:moveTo>
                  <a:pt x="18331" y="6424"/>
                </a:moveTo>
                <a:cubicBezTo>
                  <a:pt x="18413" y="6409"/>
                  <a:pt x="18470" y="6400"/>
                  <a:pt x="18554" y="6400"/>
                </a:cubicBezTo>
              </a:path>
              <a:path w="6475" h="2853">
                <a:moveTo>
                  <a:pt x="18306" y="6672"/>
                </a:moveTo>
                <a:cubicBezTo>
                  <a:pt x="18415" y="6663"/>
                  <a:pt x="18516" y="6648"/>
                  <a:pt x="18628" y="6648"/>
                </a:cubicBezTo>
              </a:path>
              <a:path w="6475" h="2853">
                <a:moveTo>
                  <a:pt x="18926" y="6350"/>
                </a:moveTo>
                <a:cubicBezTo>
                  <a:pt x="18867" y="6505"/>
                  <a:pt x="18772" y="6700"/>
                  <a:pt x="18777" y="6871"/>
                </a:cubicBezTo>
                <a:cubicBezTo>
                  <a:pt x="18785" y="6896"/>
                  <a:pt x="18794" y="6920"/>
                  <a:pt x="18802" y="6945"/>
                </a:cubicBezTo>
                <a:cubicBezTo>
                  <a:pt x="18969" y="6971"/>
                  <a:pt x="19072" y="6920"/>
                  <a:pt x="19174" y="6772"/>
                </a:cubicBezTo>
                <a:cubicBezTo>
                  <a:pt x="19219" y="6682"/>
                  <a:pt x="19239" y="6659"/>
                  <a:pt x="19199" y="6598"/>
                </a:cubicBezTo>
                <a:cubicBezTo>
                  <a:pt x="19058" y="6663"/>
                  <a:pt x="18955" y="6740"/>
                  <a:pt x="18901" y="6896"/>
                </a:cubicBezTo>
                <a:cubicBezTo>
                  <a:pt x="18901" y="6947"/>
                  <a:pt x="18903" y="6965"/>
                  <a:pt x="18951" y="6970"/>
                </a:cubicBezTo>
              </a:path>
              <a:path w="6475" h="2853">
                <a:moveTo>
                  <a:pt x="19298" y="6449"/>
                </a:moveTo>
                <a:cubicBezTo>
                  <a:pt x="19205" y="6574"/>
                  <a:pt x="19067" y="6701"/>
                  <a:pt x="19149" y="6871"/>
                </a:cubicBezTo>
                <a:cubicBezTo>
                  <a:pt x="19223" y="7024"/>
                  <a:pt x="19431" y="6862"/>
                  <a:pt x="19472" y="6772"/>
                </a:cubicBezTo>
                <a:cubicBezTo>
                  <a:pt x="19530" y="6645"/>
                  <a:pt x="19447" y="6401"/>
                  <a:pt x="19273" y="6424"/>
                </a:cubicBezTo>
                <a:cubicBezTo>
                  <a:pt x="19248" y="6441"/>
                  <a:pt x="19224" y="6457"/>
                  <a:pt x="19199" y="6474"/>
                </a:cubicBezTo>
              </a:path>
              <a:path w="6475" h="2853">
                <a:moveTo>
                  <a:pt x="19596" y="6325"/>
                </a:moveTo>
                <a:cubicBezTo>
                  <a:pt x="19573" y="6418"/>
                  <a:pt x="19532" y="6476"/>
                  <a:pt x="19645" y="6499"/>
                </a:cubicBezTo>
                <a:cubicBezTo>
                  <a:pt x="19704" y="6357"/>
                  <a:pt x="19660" y="6355"/>
                  <a:pt x="19596" y="6226"/>
                </a:cubicBezTo>
                <a:cubicBezTo>
                  <a:pt x="19596" y="6191"/>
                  <a:pt x="19601" y="6174"/>
                  <a:pt x="19621" y="6152"/>
                </a:cubicBezTo>
                <a:cubicBezTo>
                  <a:pt x="19822" y="6140"/>
                  <a:pt x="19977" y="6172"/>
                  <a:pt x="19943" y="6424"/>
                </a:cubicBezTo>
                <a:cubicBezTo>
                  <a:pt x="19922" y="6575"/>
                  <a:pt x="19811" y="6731"/>
                  <a:pt x="19720" y="6846"/>
                </a:cubicBezTo>
              </a:path>
              <a:path w="6475" h="2853">
                <a:moveTo>
                  <a:pt x="20017" y="6796"/>
                </a:moveTo>
                <a:cubicBezTo>
                  <a:pt x="20034" y="6846"/>
                  <a:pt x="20127" y="6898"/>
                  <a:pt x="20166" y="6796"/>
                </a:cubicBezTo>
                <a:cubicBezTo>
                  <a:pt x="20207" y="6687"/>
                  <a:pt x="20084" y="6677"/>
                  <a:pt x="20017" y="6648"/>
                </a:cubicBezTo>
              </a:path>
              <a:path w="6475" h="2853">
                <a:moveTo>
                  <a:pt x="20538" y="6424"/>
                </a:moveTo>
                <a:cubicBezTo>
                  <a:pt x="20623" y="6415"/>
                  <a:pt x="20699" y="6400"/>
                  <a:pt x="20786" y="6400"/>
                </a:cubicBezTo>
              </a:path>
              <a:path w="6475" h="2853">
                <a:moveTo>
                  <a:pt x="20513" y="6796"/>
                </a:moveTo>
                <a:cubicBezTo>
                  <a:pt x="20628" y="6751"/>
                  <a:pt x="20659" y="6737"/>
                  <a:pt x="20737" y="672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73800" y="2982960"/>
            <a:ext cx="322200" cy="241200"/>
          </a:xfrm>
          <a:custGeom>
            <a:avLst/>
            <a:gdLst/>
            <a:ahLst/>
            <a:rect l="l" t="t" r="r" b="b"/>
            <a:pathLst>
              <a:path w="894" h="670">
                <a:moveTo>
                  <a:pt x="16098" y="8285"/>
                </a:moveTo>
                <a:cubicBezTo>
                  <a:pt x="16019" y="8444"/>
                  <a:pt x="15723" y="8587"/>
                  <a:pt x="15577" y="8682"/>
                </a:cubicBezTo>
                <a:cubicBezTo>
                  <a:pt x="15440" y="8771"/>
                  <a:pt x="15325" y="8846"/>
                  <a:pt x="15205" y="895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70760" y="2955960"/>
            <a:ext cx="9360" cy="17280"/>
          </a:xfrm>
          <a:custGeom>
            <a:avLst/>
            <a:gdLst/>
            <a:ahLst/>
            <a:rect l="l" t="t" r="r" b="b"/>
            <a:pathLst>
              <a:path w="26" h="51">
                <a:moveTo>
                  <a:pt x="17165" y="8260"/>
                </a:moveTo>
                <a:cubicBezTo>
                  <a:pt x="17165" y="8217"/>
                  <a:pt x="17175" y="8222"/>
                  <a:pt x="17140" y="821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85000" y="2633760"/>
            <a:ext cx="822240" cy="625320"/>
          </a:xfrm>
          <a:custGeom>
            <a:avLst/>
            <a:gdLst/>
            <a:ahLst/>
            <a:rect l="l" t="t" r="r" b="b"/>
            <a:pathLst>
              <a:path w="2283" h="1738">
                <a:moveTo>
                  <a:pt x="21406" y="8334"/>
                </a:moveTo>
                <a:cubicBezTo>
                  <a:pt x="21243" y="8431"/>
                  <a:pt x="21074" y="8552"/>
                  <a:pt x="20910" y="8657"/>
                </a:cubicBezTo>
                <a:cubicBezTo>
                  <a:pt x="20631" y="8836"/>
                  <a:pt x="20351" y="8937"/>
                  <a:pt x="20042" y="9054"/>
                </a:cubicBezTo>
              </a:path>
              <a:path w="2283" h="1738">
                <a:moveTo>
                  <a:pt x="19199" y="7987"/>
                </a:moveTo>
                <a:cubicBezTo>
                  <a:pt x="19163" y="7999"/>
                  <a:pt x="19171" y="8010"/>
                  <a:pt x="19149" y="8062"/>
                </a:cubicBezTo>
                <a:cubicBezTo>
                  <a:pt x="19265" y="8062"/>
                  <a:pt x="19273" y="8047"/>
                  <a:pt x="19298" y="7938"/>
                </a:cubicBezTo>
                <a:cubicBezTo>
                  <a:pt x="19222" y="7944"/>
                  <a:pt x="19187" y="7945"/>
                  <a:pt x="19124" y="7987"/>
                </a:cubicBezTo>
              </a:path>
              <a:path w="2283" h="1738">
                <a:moveTo>
                  <a:pt x="19521" y="7441"/>
                </a:moveTo>
                <a:cubicBezTo>
                  <a:pt x="19492" y="7565"/>
                  <a:pt x="19436" y="7773"/>
                  <a:pt x="19521" y="7888"/>
                </a:cubicBezTo>
                <a:cubicBezTo>
                  <a:pt x="19626" y="8029"/>
                  <a:pt x="19863" y="7877"/>
                  <a:pt x="19918" y="7764"/>
                </a:cubicBezTo>
                <a:cubicBezTo>
                  <a:pt x="19918" y="7731"/>
                  <a:pt x="19918" y="7698"/>
                  <a:pt x="19918" y="7665"/>
                </a:cubicBezTo>
                <a:cubicBezTo>
                  <a:pt x="19764" y="7676"/>
                  <a:pt x="19597" y="7737"/>
                  <a:pt x="19621" y="7938"/>
                </a:cubicBezTo>
                <a:cubicBezTo>
                  <a:pt x="19637" y="7946"/>
                  <a:pt x="19654" y="7954"/>
                  <a:pt x="19670" y="7962"/>
                </a:cubicBezTo>
              </a:path>
              <a:path w="2283" h="1738">
                <a:moveTo>
                  <a:pt x="20141" y="7317"/>
                </a:moveTo>
                <a:cubicBezTo>
                  <a:pt x="19977" y="7491"/>
                  <a:pt x="19882" y="7578"/>
                  <a:pt x="20017" y="7789"/>
                </a:cubicBezTo>
                <a:cubicBezTo>
                  <a:pt x="20174" y="7765"/>
                  <a:pt x="20416" y="7701"/>
                  <a:pt x="20365" y="7466"/>
                </a:cubicBezTo>
                <a:cubicBezTo>
                  <a:pt x="20285" y="7360"/>
                  <a:pt x="20252" y="7327"/>
                  <a:pt x="20141" y="736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93920" y="2901960"/>
            <a:ext cx="428400" cy="330120"/>
          </a:xfrm>
          <a:custGeom>
            <a:avLst/>
            <a:gdLst/>
            <a:ahLst/>
            <a:rect l="l" t="t" r="r" b="b"/>
            <a:pathLst>
              <a:path w="1191" h="918">
                <a:moveTo>
                  <a:pt x="5060" y="8062"/>
                </a:moveTo>
                <a:cubicBezTo>
                  <a:pt x="4933" y="8163"/>
                  <a:pt x="4769" y="8297"/>
                  <a:pt x="4638" y="8409"/>
                </a:cubicBezTo>
                <a:cubicBezTo>
                  <a:pt x="4400" y="8612"/>
                  <a:pt x="4138" y="8760"/>
                  <a:pt x="3894" y="8954"/>
                </a:cubicBezTo>
                <a:cubicBezTo>
                  <a:pt x="3886" y="8962"/>
                  <a:pt x="3878" y="8971"/>
                  <a:pt x="3870" y="897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45080" y="3483000"/>
            <a:ext cx="304920" cy="187200"/>
          </a:xfrm>
          <a:custGeom>
            <a:avLst/>
            <a:gdLst/>
            <a:ahLst/>
            <a:rect l="l" t="t" r="r" b="b"/>
            <a:pathLst>
              <a:path w="844" h="522">
                <a:moveTo>
                  <a:pt x="16247" y="9773"/>
                </a:moveTo>
                <a:cubicBezTo>
                  <a:pt x="16247" y="9723"/>
                  <a:pt x="16247" y="9707"/>
                  <a:pt x="16247" y="9674"/>
                </a:cubicBezTo>
                <a:cubicBezTo>
                  <a:pt x="16021" y="9697"/>
                  <a:pt x="15863" y="9873"/>
                  <a:pt x="15677" y="9996"/>
                </a:cubicBezTo>
                <a:cubicBezTo>
                  <a:pt x="15613" y="10038"/>
                  <a:pt x="15293" y="10170"/>
                  <a:pt x="15478" y="1017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15040" y="3446640"/>
            <a:ext cx="687240" cy="1465200"/>
          </a:xfrm>
          <a:custGeom>
            <a:avLst/>
            <a:gdLst/>
            <a:ahLst/>
            <a:rect l="l" t="t" r="r" b="b"/>
            <a:pathLst>
              <a:path w="1911" h="4069">
                <a:moveTo>
                  <a:pt x="19174" y="9575"/>
                </a:moveTo>
                <a:cubicBezTo>
                  <a:pt x="19080" y="9597"/>
                  <a:pt x="18920" y="9745"/>
                  <a:pt x="18852" y="9798"/>
                </a:cubicBezTo>
                <a:cubicBezTo>
                  <a:pt x="18771" y="9861"/>
                  <a:pt x="18495" y="10029"/>
                  <a:pt x="18579" y="10071"/>
                </a:cubicBezTo>
              </a:path>
              <a:path w="1911" h="4069">
                <a:moveTo>
                  <a:pt x="17835" y="11212"/>
                </a:moveTo>
                <a:cubicBezTo>
                  <a:pt x="17762" y="11236"/>
                  <a:pt x="17522" y="11478"/>
                  <a:pt x="17462" y="11534"/>
                </a:cubicBezTo>
                <a:cubicBezTo>
                  <a:pt x="17363" y="11633"/>
                  <a:pt x="17346" y="11649"/>
                  <a:pt x="17289" y="11708"/>
                </a:cubicBezTo>
              </a:path>
              <a:path w="1911" h="4069">
                <a:moveTo>
                  <a:pt x="17264" y="13171"/>
                </a:moveTo>
                <a:cubicBezTo>
                  <a:pt x="17301" y="13159"/>
                  <a:pt x="17294" y="13149"/>
                  <a:pt x="17314" y="13122"/>
                </a:cubicBezTo>
                <a:cubicBezTo>
                  <a:pt x="17339" y="13087"/>
                  <a:pt x="17375" y="13061"/>
                  <a:pt x="17388" y="13022"/>
                </a:cubicBezTo>
                <a:cubicBezTo>
                  <a:pt x="17388" y="13014"/>
                  <a:pt x="17388" y="13006"/>
                  <a:pt x="17388" y="12998"/>
                </a:cubicBezTo>
                <a:cubicBezTo>
                  <a:pt x="17421" y="13111"/>
                  <a:pt x="17339" y="13309"/>
                  <a:pt x="17314" y="13444"/>
                </a:cubicBezTo>
                <a:cubicBezTo>
                  <a:pt x="17299" y="13528"/>
                  <a:pt x="17278" y="13703"/>
                  <a:pt x="17289" y="13618"/>
                </a:cubicBezTo>
                <a:cubicBezTo>
                  <a:pt x="17289" y="13593"/>
                  <a:pt x="17289" y="13585"/>
                  <a:pt x="17289" y="1356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16840" y="3510000"/>
            <a:ext cx="519120" cy="812880"/>
          </a:xfrm>
          <a:custGeom>
            <a:avLst/>
            <a:gdLst/>
            <a:ahLst/>
            <a:rect l="l" t="t" r="r" b="b"/>
            <a:pathLst>
              <a:path w="1440" h="2258">
                <a:moveTo>
                  <a:pt x="21208" y="9748"/>
                </a:moveTo>
                <a:cubicBezTo>
                  <a:pt x="21053" y="9851"/>
                  <a:pt x="20939" y="10008"/>
                  <a:pt x="20786" y="10120"/>
                </a:cubicBezTo>
                <a:cubicBezTo>
                  <a:pt x="20545" y="10295"/>
                  <a:pt x="20325" y="10342"/>
                  <a:pt x="20042" y="10418"/>
                </a:cubicBezTo>
              </a:path>
              <a:path w="1440" h="2258">
                <a:moveTo>
                  <a:pt x="21084" y="11237"/>
                </a:moveTo>
                <a:cubicBezTo>
                  <a:pt x="21092" y="11186"/>
                  <a:pt x="21089" y="11213"/>
                  <a:pt x="21109" y="11187"/>
                </a:cubicBezTo>
                <a:cubicBezTo>
                  <a:pt x="20964" y="11304"/>
                  <a:pt x="20797" y="11465"/>
                  <a:pt x="20638" y="11584"/>
                </a:cubicBezTo>
                <a:cubicBezTo>
                  <a:pt x="20357" y="11794"/>
                  <a:pt x="20095" y="11890"/>
                  <a:pt x="19769" y="1200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500280" y="4259160"/>
            <a:ext cx="536760" cy="339840"/>
          </a:xfrm>
          <a:custGeom>
            <a:avLst/>
            <a:gdLst/>
            <a:ahLst/>
            <a:rect l="l" t="t" r="r" b="b"/>
            <a:pathLst>
              <a:path w="1490" h="943">
                <a:moveTo>
                  <a:pt x="11187" y="11832"/>
                </a:moveTo>
                <a:cubicBezTo>
                  <a:pt x="11069" y="11909"/>
                  <a:pt x="11003" y="11972"/>
                  <a:pt x="10889" y="12055"/>
                </a:cubicBezTo>
                <a:cubicBezTo>
                  <a:pt x="10507" y="12334"/>
                  <a:pt x="10141" y="12556"/>
                  <a:pt x="9723" y="1277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56040" y="2276640"/>
            <a:ext cx="625320" cy="63360"/>
          </a:xfrm>
          <a:custGeom>
            <a:avLst/>
            <a:gdLst/>
            <a:ahLst/>
            <a:rect l="l" t="t" r="r" b="b"/>
            <a:pathLst>
              <a:path w="1738" h="175">
                <a:moveTo>
                  <a:pt x="10988" y="6499"/>
                </a:moveTo>
                <a:cubicBezTo>
                  <a:pt x="11022" y="6432"/>
                  <a:pt x="11054" y="6441"/>
                  <a:pt x="11162" y="6424"/>
                </a:cubicBezTo>
                <a:cubicBezTo>
                  <a:pt x="11425" y="6383"/>
                  <a:pt x="11692" y="6393"/>
                  <a:pt x="11956" y="6375"/>
                </a:cubicBezTo>
                <a:cubicBezTo>
                  <a:pt x="12196" y="6359"/>
                  <a:pt x="12436" y="6335"/>
                  <a:pt x="12675" y="6325"/>
                </a:cubicBezTo>
                <a:cubicBezTo>
                  <a:pt x="12732" y="6323"/>
                  <a:pt x="12734" y="6306"/>
                  <a:pt x="12675" y="635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10040" y="2411280"/>
            <a:ext cx="222120" cy="268560"/>
          </a:xfrm>
          <a:custGeom>
            <a:avLst/>
            <a:gdLst/>
            <a:ahLst/>
            <a:rect l="l" t="t" r="r" b="b"/>
            <a:pathLst>
              <a:path w="621" h="745">
                <a:moveTo>
                  <a:pt x="11286" y="6821"/>
                </a:moveTo>
                <a:cubicBezTo>
                  <a:pt x="11299" y="6771"/>
                  <a:pt x="11407" y="6692"/>
                  <a:pt x="11460" y="6697"/>
                </a:cubicBezTo>
                <a:cubicBezTo>
                  <a:pt x="11687" y="6717"/>
                  <a:pt x="11662" y="6975"/>
                  <a:pt x="11609" y="7119"/>
                </a:cubicBezTo>
                <a:cubicBezTo>
                  <a:pt x="11527" y="7340"/>
                  <a:pt x="11371" y="7416"/>
                  <a:pt x="11162" y="7417"/>
                </a:cubicBezTo>
                <a:cubicBezTo>
                  <a:pt x="11150" y="7236"/>
                  <a:pt x="11233" y="7137"/>
                  <a:pt x="11435" y="7094"/>
                </a:cubicBezTo>
                <a:cubicBezTo>
                  <a:pt x="11628" y="7053"/>
                  <a:pt x="11605" y="7175"/>
                  <a:pt x="11708" y="7268"/>
                </a:cubicBezTo>
                <a:cubicBezTo>
                  <a:pt x="11733" y="7268"/>
                  <a:pt x="11741" y="7268"/>
                  <a:pt x="11757" y="726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259160" y="2394000"/>
            <a:ext cx="206640" cy="249120"/>
          </a:xfrm>
          <a:custGeom>
            <a:avLst/>
            <a:gdLst/>
            <a:ahLst/>
            <a:rect l="l" t="t" r="r" b="b"/>
            <a:pathLst>
              <a:path w="571" h="695">
                <a:moveTo>
                  <a:pt x="12378" y="6648"/>
                </a:moveTo>
                <a:cubicBezTo>
                  <a:pt x="12287" y="6688"/>
                  <a:pt x="12154" y="6730"/>
                  <a:pt x="12055" y="6722"/>
                </a:cubicBezTo>
                <a:cubicBezTo>
                  <a:pt x="11991" y="6717"/>
                  <a:pt x="11953" y="6711"/>
                  <a:pt x="11906" y="6796"/>
                </a:cubicBezTo>
                <a:cubicBezTo>
                  <a:pt x="11864" y="6872"/>
                  <a:pt x="11844" y="6985"/>
                  <a:pt x="11832" y="7069"/>
                </a:cubicBezTo>
                <a:cubicBezTo>
                  <a:pt x="11905" y="7069"/>
                  <a:pt x="11963" y="7005"/>
                  <a:pt x="12030" y="6970"/>
                </a:cubicBezTo>
                <a:cubicBezTo>
                  <a:pt x="12136" y="6914"/>
                  <a:pt x="12350" y="6862"/>
                  <a:pt x="12402" y="7020"/>
                </a:cubicBezTo>
                <a:cubicBezTo>
                  <a:pt x="12468" y="7220"/>
                  <a:pt x="12144" y="7332"/>
                  <a:pt x="12005" y="7342"/>
                </a:cubicBezTo>
                <a:cubicBezTo>
                  <a:pt x="11956" y="7334"/>
                  <a:pt x="11906" y="7325"/>
                  <a:pt x="11857" y="731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187880" y="6107040"/>
            <a:ext cx="1509480" cy="100080"/>
          </a:xfrm>
          <a:custGeom>
            <a:avLst/>
            <a:gdLst/>
            <a:ahLst/>
            <a:rect l="l" t="t" r="r" b="b"/>
            <a:pathLst>
              <a:path w="4193" h="274">
                <a:moveTo>
                  <a:pt x="11633" y="17239"/>
                </a:moveTo>
                <a:cubicBezTo>
                  <a:pt x="11668" y="17214"/>
                  <a:pt x="11670" y="17190"/>
                  <a:pt x="11733" y="17165"/>
                </a:cubicBezTo>
                <a:cubicBezTo>
                  <a:pt x="11875" y="17108"/>
                  <a:pt x="12052" y="17102"/>
                  <a:pt x="12204" y="17066"/>
                </a:cubicBezTo>
                <a:cubicBezTo>
                  <a:pt x="12302" y="17043"/>
                  <a:pt x="12403" y="17023"/>
                  <a:pt x="12502" y="17016"/>
                </a:cubicBezTo>
                <a:cubicBezTo>
                  <a:pt x="12635" y="17007"/>
                  <a:pt x="12767" y="17002"/>
                  <a:pt x="12898" y="16991"/>
                </a:cubicBezTo>
                <a:cubicBezTo>
                  <a:pt x="13039" y="16979"/>
                  <a:pt x="13154" y="16987"/>
                  <a:pt x="13295" y="16991"/>
                </a:cubicBezTo>
                <a:cubicBezTo>
                  <a:pt x="13415" y="16994"/>
                  <a:pt x="13527" y="17003"/>
                  <a:pt x="13643" y="17016"/>
                </a:cubicBezTo>
                <a:cubicBezTo>
                  <a:pt x="13766" y="17029"/>
                  <a:pt x="13892" y="17038"/>
                  <a:pt x="14015" y="17041"/>
                </a:cubicBezTo>
                <a:cubicBezTo>
                  <a:pt x="14314" y="17049"/>
                  <a:pt x="14611" y="17047"/>
                  <a:pt x="14908" y="17066"/>
                </a:cubicBezTo>
                <a:cubicBezTo>
                  <a:pt x="15211" y="17085"/>
                  <a:pt x="15521" y="17066"/>
                  <a:pt x="15825" y="1706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02080" y="2955960"/>
            <a:ext cx="322200" cy="268200"/>
          </a:xfrm>
          <a:custGeom>
            <a:avLst/>
            <a:gdLst/>
            <a:ahLst/>
            <a:rect l="l" t="t" r="r" b="b"/>
            <a:pathLst>
              <a:path w="894" h="745">
                <a:moveTo>
                  <a:pt x="13122" y="8210"/>
                </a:moveTo>
                <a:cubicBezTo>
                  <a:pt x="13038" y="8433"/>
                  <a:pt x="12846" y="8554"/>
                  <a:pt x="12650" y="8682"/>
                </a:cubicBezTo>
                <a:cubicBezTo>
                  <a:pt x="12504" y="8777"/>
                  <a:pt x="12365" y="8849"/>
                  <a:pt x="12229" y="895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347840" y="3483000"/>
            <a:ext cx="304920" cy="177840"/>
          </a:xfrm>
          <a:custGeom>
            <a:avLst/>
            <a:gdLst/>
            <a:ahLst/>
            <a:rect l="l" t="t" r="r" b="b"/>
            <a:pathLst>
              <a:path w="844" h="497">
                <a:moveTo>
                  <a:pt x="4589" y="9674"/>
                </a:moveTo>
                <a:cubicBezTo>
                  <a:pt x="4330" y="9846"/>
                  <a:pt x="4069" y="9998"/>
                  <a:pt x="3795" y="10145"/>
                </a:cubicBezTo>
                <a:cubicBezTo>
                  <a:pt x="3779" y="10153"/>
                  <a:pt x="3762" y="10162"/>
                  <a:pt x="3746" y="1017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544760" y="3929040"/>
            <a:ext cx="196560" cy="179280"/>
          </a:xfrm>
          <a:custGeom>
            <a:avLst/>
            <a:gdLst/>
            <a:ahLst/>
            <a:rect l="l" t="t" r="r" b="b"/>
            <a:pathLst>
              <a:path w="547" h="497">
                <a:moveTo>
                  <a:pt x="4837" y="10914"/>
                </a:moveTo>
                <a:cubicBezTo>
                  <a:pt x="4671" y="11080"/>
                  <a:pt x="4505" y="11271"/>
                  <a:pt x="4316" y="11410"/>
                </a:cubicBezTo>
                <a:cubicBezTo>
                  <a:pt x="4308" y="11410"/>
                  <a:pt x="4299" y="11410"/>
                  <a:pt x="4291" y="1141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43080" y="3902040"/>
            <a:ext cx="285840" cy="258840"/>
          </a:xfrm>
          <a:custGeom>
            <a:avLst/>
            <a:gdLst/>
            <a:ahLst/>
            <a:rect l="l" t="t" r="r" b="b"/>
            <a:pathLst>
              <a:path w="795" h="720">
                <a:moveTo>
                  <a:pt x="6747" y="10840"/>
                </a:moveTo>
                <a:cubicBezTo>
                  <a:pt x="6546" y="11052"/>
                  <a:pt x="6298" y="11215"/>
                  <a:pt x="6077" y="11410"/>
                </a:cubicBezTo>
                <a:cubicBezTo>
                  <a:pt x="5986" y="11501"/>
                  <a:pt x="5912" y="11509"/>
                  <a:pt x="5978" y="1155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32160" y="3983040"/>
            <a:ext cx="241560" cy="214200"/>
          </a:xfrm>
          <a:custGeom>
            <a:avLst/>
            <a:gdLst/>
            <a:ahLst/>
            <a:rect l="l" t="t" r="r" b="b"/>
            <a:pathLst>
              <a:path w="671" h="596">
                <a:moveTo>
                  <a:pt x="12080" y="11311"/>
                </a:moveTo>
                <a:cubicBezTo>
                  <a:pt x="12080" y="11211"/>
                  <a:pt x="12116" y="11220"/>
                  <a:pt x="12204" y="11162"/>
                </a:cubicBezTo>
                <a:cubicBezTo>
                  <a:pt x="12277" y="11114"/>
                  <a:pt x="12510" y="11060"/>
                  <a:pt x="12427" y="11088"/>
                </a:cubicBezTo>
                <a:cubicBezTo>
                  <a:pt x="12228" y="11156"/>
                  <a:pt x="11983" y="11461"/>
                  <a:pt x="11807" y="11609"/>
                </a:cubicBezTo>
                <a:cubicBezTo>
                  <a:pt x="11757" y="11658"/>
                  <a:pt x="11740" y="11674"/>
                  <a:pt x="11807" y="1160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01840" y="4197240"/>
            <a:ext cx="187200" cy="276480"/>
          </a:xfrm>
          <a:custGeom>
            <a:avLst/>
            <a:gdLst/>
            <a:ahLst/>
            <a:rect l="l" t="t" r="r" b="b"/>
            <a:pathLst>
              <a:path w="522" h="770">
                <a:moveTo>
                  <a:pt x="4390" y="11708"/>
                </a:moveTo>
                <a:cubicBezTo>
                  <a:pt x="4451" y="11626"/>
                  <a:pt x="4421" y="11711"/>
                  <a:pt x="4390" y="11757"/>
                </a:cubicBezTo>
                <a:cubicBezTo>
                  <a:pt x="4233" y="11986"/>
                  <a:pt x="4055" y="12201"/>
                  <a:pt x="3894" y="1242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73680" y="2009880"/>
            <a:ext cx="36360" cy="276120"/>
          </a:xfrm>
          <a:custGeom>
            <a:avLst/>
            <a:gdLst/>
            <a:ahLst/>
            <a:rect l="l" t="t" r="r" b="b"/>
            <a:pathLst>
              <a:path w="100" h="770">
                <a:moveTo>
                  <a:pt x="11063" y="5680"/>
                </a:moveTo>
                <a:cubicBezTo>
                  <a:pt x="11089" y="5647"/>
                  <a:pt x="11111" y="5614"/>
                  <a:pt x="11137" y="5581"/>
                </a:cubicBezTo>
                <a:cubicBezTo>
                  <a:pt x="11137" y="5794"/>
                  <a:pt x="11105" y="5992"/>
                  <a:pt x="11063" y="6201"/>
                </a:cubicBezTo>
                <a:cubicBezTo>
                  <a:pt x="11045" y="6291"/>
                  <a:pt x="10978" y="6432"/>
                  <a:pt x="11088" y="625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133880" y="1884240"/>
            <a:ext cx="206280" cy="339840"/>
          </a:xfrm>
          <a:custGeom>
            <a:avLst/>
            <a:gdLst/>
            <a:ahLst/>
            <a:rect l="l" t="t" r="r" b="b"/>
            <a:pathLst>
              <a:path w="571" h="943">
                <a:moveTo>
                  <a:pt x="11981" y="5234"/>
                </a:moveTo>
                <a:cubicBezTo>
                  <a:pt x="11862" y="5301"/>
                  <a:pt x="11741" y="5350"/>
                  <a:pt x="11609" y="5383"/>
                </a:cubicBezTo>
                <a:cubicBezTo>
                  <a:pt x="11550" y="5398"/>
                  <a:pt x="11528" y="5491"/>
                  <a:pt x="11509" y="5556"/>
                </a:cubicBezTo>
                <a:cubicBezTo>
                  <a:pt x="11489" y="5625"/>
                  <a:pt x="11485" y="5664"/>
                  <a:pt x="11485" y="5730"/>
                </a:cubicBezTo>
                <a:cubicBezTo>
                  <a:pt x="11585" y="5709"/>
                  <a:pt x="11678" y="5612"/>
                  <a:pt x="11782" y="5606"/>
                </a:cubicBezTo>
                <a:cubicBezTo>
                  <a:pt x="11954" y="5596"/>
                  <a:pt x="12116" y="5722"/>
                  <a:pt x="12030" y="5904"/>
                </a:cubicBezTo>
                <a:cubicBezTo>
                  <a:pt x="11947" y="6079"/>
                  <a:pt x="11757" y="6147"/>
                  <a:pt x="11584" y="617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ive:  Students will identify the probability of an event as a decimal, fraction and perc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essica rolled a number cube 30 times and her results are shown bel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5 1 3 6 3 4 2 3 5 1 2 2 2 6 5 3 5 4 1 6 5 2 3 4 1 5 3 3 1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d on her results, what is the experimental probability that Jessica will roll an even number on her next rol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) 0.12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) 0.18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) 0.40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) 0.6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786040" y="4054320"/>
            <a:ext cx="376200" cy="339840"/>
          </a:xfrm>
          <a:custGeom>
            <a:avLst/>
            <a:gdLst/>
            <a:ahLst/>
            <a:rect l="l" t="t" r="r" b="b"/>
            <a:pathLst>
              <a:path w="1043" h="944">
                <a:moveTo>
                  <a:pt x="8062" y="11410"/>
                </a:moveTo>
                <a:cubicBezTo>
                  <a:pt x="8080" y="11355"/>
                  <a:pt x="8080" y="11398"/>
                  <a:pt x="8062" y="11361"/>
                </a:cubicBezTo>
                <a:cubicBezTo>
                  <a:pt x="8051" y="11338"/>
                  <a:pt x="8079" y="11333"/>
                  <a:pt x="8086" y="11311"/>
                </a:cubicBezTo>
                <a:cubicBezTo>
                  <a:pt x="8014" y="11385"/>
                  <a:pt x="7978" y="11659"/>
                  <a:pt x="7962" y="11782"/>
                </a:cubicBezTo>
                <a:cubicBezTo>
                  <a:pt x="7956" y="11831"/>
                  <a:pt x="7953" y="11967"/>
                  <a:pt x="7962" y="11981"/>
                </a:cubicBezTo>
              </a:path>
              <a:path w="1043" h="944">
                <a:moveTo>
                  <a:pt x="8458" y="11286"/>
                </a:moveTo>
                <a:cubicBezTo>
                  <a:pt x="8613" y="11274"/>
                  <a:pt x="8719" y="11343"/>
                  <a:pt x="8731" y="11534"/>
                </a:cubicBezTo>
                <a:cubicBezTo>
                  <a:pt x="8739" y="11656"/>
                  <a:pt x="8607" y="11923"/>
                  <a:pt x="8458" y="11906"/>
                </a:cubicBezTo>
                <a:cubicBezTo>
                  <a:pt x="8404" y="11852"/>
                  <a:pt x="8384" y="11830"/>
                  <a:pt x="8359" y="11782"/>
                </a:cubicBezTo>
                <a:cubicBezTo>
                  <a:pt x="8460" y="11704"/>
                  <a:pt x="8542" y="11670"/>
                  <a:pt x="8657" y="11757"/>
                </a:cubicBezTo>
                <a:cubicBezTo>
                  <a:pt x="8752" y="11828"/>
                  <a:pt x="8821" y="11906"/>
                  <a:pt x="8731" y="11981"/>
                </a:cubicBezTo>
              </a:path>
              <a:path w="1043" h="944">
                <a:moveTo>
                  <a:pt x="7739" y="12204"/>
                </a:moveTo>
                <a:cubicBezTo>
                  <a:pt x="8036" y="12176"/>
                  <a:pt x="8334" y="12160"/>
                  <a:pt x="8632" y="12154"/>
                </a:cubicBezTo>
                <a:cubicBezTo>
                  <a:pt x="8659" y="12153"/>
                  <a:pt x="8765" y="12149"/>
                  <a:pt x="8706" y="1217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13040" y="4464000"/>
            <a:ext cx="393840" cy="223920"/>
          </a:xfrm>
          <a:custGeom>
            <a:avLst/>
            <a:gdLst/>
            <a:ahLst/>
            <a:rect l="l" t="t" r="r" b="b"/>
            <a:pathLst>
              <a:path w="1093" h="621">
                <a:moveTo>
                  <a:pt x="7888" y="12452"/>
                </a:moveTo>
                <a:cubicBezTo>
                  <a:pt x="8005" y="12413"/>
                  <a:pt x="8192" y="12349"/>
                  <a:pt x="8310" y="12427"/>
                </a:cubicBezTo>
                <a:cubicBezTo>
                  <a:pt x="8410" y="12493"/>
                  <a:pt x="8151" y="12624"/>
                  <a:pt x="8111" y="12650"/>
                </a:cubicBezTo>
                <a:cubicBezTo>
                  <a:pt x="8103" y="12650"/>
                  <a:pt x="8094" y="12650"/>
                  <a:pt x="8086" y="12650"/>
                </a:cubicBezTo>
                <a:cubicBezTo>
                  <a:pt x="8200" y="12650"/>
                  <a:pt x="8270" y="12628"/>
                  <a:pt x="8359" y="12725"/>
                </a:cubicBezTo>
                <a:cubicBezTo>
                  <a:pt x="8454" y="12829"/>
                  <a:pt x="8313" y="13001"/>
                  <a:pt x="8210" y="13022"/>
                </a:cubicBezTo>
                <a:cubicBezTo>
                  <a:pt x="8072" y="13050"/>
                  <a:pt x="7898" y="13023"/>
                  <a:pt x="7813" y="12923"/>
                </a:cubicBezTo>
              </a:path>
              <a:path w="1093" h="621">
                <a:moveTo>
                  <a:pt x="8632" y="12626"/>
                </a:moveTo>
                <a:cubicBezTo>
                  <a:pt x="8553" y="12719"/>
                  <a:pt x="8507" y="12779"/>
                  <a:pt x="8533" y="12898"/>
                </a:cubicBezTo>
                <a:cubicBezTo>
                  <a:pt x="8567" y="13055"/>
                  <a:pt x="8758" y="13001"/>
                  <a:pt x="8855" y="12923"/>
                </a:cubicBezTo>
                <a:cubicBezTo>
                  <a:pt x="8932" y="12860"/>
                  <a:pt x="8932" y="12689"/>
                  <a:pt x="8855" y="12626"/>
                </a:cubicBezTo>
                <a:cubicBezTo>
                  <a:pt x="8811" y="12590"/>
                  <a:pt x="8711" y="12575"/>
                  <a:pt x="8657" y="1255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537000" y="3956040"/>
            <a:ext cx="2017800" cy="492120"/>
          </a:xfrm>
          <a:custGeom>
            <a:avLst/>
            <a:gdLst/>
            <a:ahLst/>
            <a:rect l="l" t="t" r="r" b="b"/>
            <a:pathLst>
              <a:path w="5607" h="1366">
                <a:moveTo>
                  <a:pt x="9823" y="11981"/>
                </a:moveTo>
                <a:cubicBezTo>
                  <a:pt x="9840" y="11929"/>
                  <a:pt x="9965" y="11956"/>
                  <a:pt x="10021" y="11956"/>
                </a:cubicBezTo>
                <a:cubicBezTo>
                  <a:pt x="10066" y="11956"/>
                  <a:pt x="10079" y="11953"/>
                  <a:pt x="10096" y="11981"/>
                </a:cubicBezTo>
              </a:path>
              <a:path w="5607" h="1366">
                <a:moveTo>
                  <a:pt x="9847" y="12179"/>
                </a:moveTo>
                <a:cubicBezTo>
                  <a:pt x="9955" y="12152"/>
                  <a:pt x="9996" y="12142"/>
                  <a:pt x="10071" y="12129"/>
                </a:cubicBezTo>
              </a:path>
              <a:path w="5607" h="1366">
                <a:moveTo>
                  <a:pt x="12005" y="11881"/>
                </a:moveTo>
                <a:cubicBezTo>
                  <a:pt x="12005" y="12013"/>
                  <a:pt x="12005" y="12146"/>
                  <a:pt x="12005" y="12278"/>
                </a:cubicBezTo>
              </a:path>
              <a:path w="5607" h="1366">
                <a:moveTo>
                  <a:pt x="12477" y="11857"/>
                </a:moveTo>
                <a:cubicBezTo>
                  <a:pt x="12667" y="11887"/>
                  <a:pt x="12818" y="11963"/>
                  <a:pt x="12774" y="12204"/>
                </a:cubicBezTo>
                <a:cubicBezTo>
                  <a:pt x="12742" y="12380"/>
                  <a:pt x="12579" y="12376"/>
                  <a:pt x="12477" y="12278"/>
                </a:cubicBezTo>
                <a:cubicBezTo>
                  <a:pt x="12433" y="12213"/>
                  <a:pt x="12422" y="12199"/>
                  <a:pt x="12402" y="12154"/>
                </a:cubicBezTo>
                <a:cubicBezTo>
                  <a:pt x="12571" y="12154"/>
                  <a:pt x="12658" y="12159"/>
                  <a:pt x="12799" y="12254"/>
                </a:cubicBezTo>
                <a:cubicBezTo>
                  <a:pt x="12842" y="12283"/>
                  <a:pt x="12829" y="12293"/>
                  <a:pt x="12799" y="12303"/>
                </a:cubicBezTo>
              </a:path>
              <a:path w="5607" h="1366">
                <a:moveTo>
                  <a:pt x="11658" y="12353"/>
                </a:moveTo>
                <a:cubicBezTo>
                  <a:pt x="11711" y="12203"/>
                  <a:pt x="11752" y="12023"/>
                  <a:pt x="11733" y="11857"/>
                </a:cubicBezTo>
                <a:cubicBezTo>
                  <a:pt x="11711" y="11790"/>
                  <a:pt x="11706" y="11772"/>
                  <a:pt x="11683" y="11733"/>
                </a:cubicBezTo>
                <a:cubicBezTo>
                  <a:pt x="11900" y="11733"/>
                  <a:pt x="12089" y="11756"/>
                  <a:pt x="12303" y="11782"/>
                </a:cubicBezTo>
                <a:cubicBezTo>
                  <a:pt x="12535" y="11811"/>
                  <a:pt x="12765" y="11870"/>
                  <a:pt x="12998" y="11881"/>
                </a:cubicBezTo>
                <a:cubicBezTo>
                  <a:pt x="13006" y="11881"/>
                  <a:pt x="13014" y="11881"/>
                  <a:pt x="13022" y="11881"/>
                </a:cubicBezTo>
              </a:path>
              <a:path w="5607" h="1366">
                <a:moveTo>
                  <a:pt x="10889" y="11981"/>
                </a:moveTo>
                <a:cubicBezTo>
                  <a:pt x="10840" y="11944"/>
                  <a:pt x="10807" y="11942"/>
                  <a:pt x="10889" y="11881"/>
                </a:cubicBezTo>
                <a:cubicBezTo>
                  <a:pt x="10931" y="11850"/>
                  <a:pt x="10966" y="11857"/>
                  <a:pt x="11013" y="11857"/>
                </a:cubicBezTo>
                <a:cubicBezTo>
                  <a:pt x="10998" y="11986"/>
                  <a:pt x="10959" y="12022"/>
                  <a:pt x="10864" y="12105"/>
                </a:cubicBezTo>
                <a:cubicBezTo>
                  <a:pt x="10842" y="12127"/>
                  <a:pt x="10834" y="12138"/>
                  <a:pt x="10840" y="12105"/>
                </a:cubicBezTo>
                <a:cubicBezTo>
                  <a:pt x="10902" y="12091"/>
                  <a:pt x="10943" y="12072"/>
                  <a:pt x="10988" y="12080"/>
                </a:cubicBezTo>
                <a:cubicBezTo>
                  <a:pt x="11009" y="12184"/>
                  <a:pt x="10987" y="12303"/>
                  <a:pt x="10840" y="12303"/>
                </a:cubicBezTo>
                <a:cubicBezTo>
                  <a:pt x="10698" y="12303"/>
                  <a:pt x="10691" y="12274"/>
                  <a:pt x="10691" y="12179"/>
                </a:cubicBezTo>
              </a:path>
              <a:path w="5607" h="1366">
                <a:moveTo>
                  <a:pt x="11261" y="11931"/>
                </a:moveTo>
                <a:cubicBezTo>
                  <a:pt x="11170" y="11986"/>
                  <a:pt x="11124" y="12113"/>
                  <a:pt x="11137" y="12229"/>
                </a:cubicBezTo>
                <a:cubicBezTo>
                  <a:pt x="11145" y="12245"/>
                  <a:pt x="11154" y="12262"/>
                  <a:pt x="11162" y="12278"/>
                </a:cubicBezTo>
                <a:cubicBezTo>
                  <a:pt x="11282" y="12267"/>
                  <a:pt x="11462" y="12263"/>
                  <a:pt x="11485" y="12105"/>
                </a:cubicBezTo>
                <a:cubicBezTo>
                  <a:pt x="11504" y="11977"/>
                  <a:pt x="11416" y="11953"/>
                  <a:pt x="11336" y="11931"/>
                </a:cubicBezTo>
              </a:path>
              <a:path w="5607" h="1366">
                <a:moveTo>
                  <a:pt x="13022" y="12278"/>
                </a:moveTo>
                <a:cubicBezTo>
                  <a:pt x="12998" y="12278"/>
                  <a:pt x="12990" y="12278"/>
                  <a:pt x="12998" y="12303"/>
                </a:cubicBezTo>
                <a:cubicBezTo>
                  <a:pt x="13020" y="12303"/>
                  <a:pt x="13133" y="12300"/>
                  <a:pt x="13097" y="12254"/>
                </a:cubicBezTo>
                <a:cubicBezTo>
                  <a:pt x="13069" y="12254"/>
                  <a:pt x="13058" y="12252"/>
                  <a:pt x="13047" y="12229"/>
                </a:cubicBezTo>
              </a:path>
              <a:path w="5607" h="1366">
                <a:moveTo>
                  <a:pt x="13072" y="11683"/>
                </a:moveTo>
                <a:cubicBezTo>
                  <a:pt x="13047" y="11683"/>
                  <a:pt x="13039" y="11683"/>
                  <a:pt x="13047" y="11708"/>
                </a:cubicBezTo>
                <a:cubicBezTo>
                  <a:pt x="13112" y="11708"/>
                  <a:pt x="13149" y="11659"/>
                  <a:pt x="13122" y="11584"/>
                </a:cubicBezTo>
                <a:cubicBezTo>
                  <a:pt x="13109" y="11550"/>
                  <a:pt x="13077" y="11622"/>
                  <a:pt x="13072" y="11658"/>
                </a:cubicBezTo>
              </a:path>
              <a:path w="5607" h="1366">
                <a:moveTo>
                  <a:pt x="13543" y="11906"/>
                </a:moveTo>
                <a:cubicBezTo>
                  <a:pt x="13421" y="11928"/>
                  <a:pt x="13355" y="11984"/>
                  <a:pt x="13370" y="12129"/>
                </a:cubicBezTo>
                <a:cubicBezTo>
                  <a:pt x="13378" y="12154"/>
                  <a:pt x="13387" y="12179"/>
                  <a:pt x="13395" y="12204"/>
                </a:cubicBezTo>
                <a:cubicBezTo>
                  <a:pt x="13507" y="12191"/>
                  <a:pt x="13613" y="12169"/>
                  <a:pt x="13618" y="12030"/>
                </a:cubicBezTo>
                <a:cubicBezTo>
                  <a:pt x="13622" y="11917"/>
                  <a:pt x="13497" y="11891"/>
                  <a:pt x="13419" y="11857"/>
                </a:cubicBezTo>
              </a:path>
              <a:path w="5607" h="1366">
                <a:moveTo>
                  <a:pt x="13618" y="11088"/>
                </a:moveTo>
                <a:cubicBezTo>
                  <a:pt x="13550" y="11129"/>
                  <a:pt x="13529" y="11180"/>
                  <a:pt x="13519" y="11261"/>
                </a:cubicBezTo>
                <a:cubicBezTo>
                  <a:pt x="13667" y="11272"/>
                  <a:pt x="13760" y="11253"/>
                  <a:pt x="13841" y="11137"/>
                </a:cubicBezTo>
              </a:path>
              <a:path w="5607" h="1366">
                <a:moveTo>
                  <a:pt x="13742" y="10988"/>
                </a:moveTo>
                <a:cubicBezTo>
                  <a:pt x="13664" y="11165"/>
                  <a:pt x="13607" y="11316"/>
                  <a:pt x="13593" y="11509"/>
                </a:cubicBezTo>
              </a:path>
              <a:path w="5607" h="1366">
                <a:moveTo>
                  <a:pt x="13122" y="11683"/>
                </a:moveTo>
                <a:cubicBezTo>
                  <a:pt x="13204" y="11683"/>
                  <a:pt x="13264" y="11706"/>
                  <a:pt x="13345" y="11708"/>
                </a:cubicBezTo>
                <a:cubicBezTo>
                  <a:pt x="13616" y="11716"/>
                  <a:pt x="13892" y="11717"/>
                  <a:pt x="14163" y="11733"/>
                </a:cubicBezTo>
                <a:cubicBezTo>
                  <a:pt x="14297" y="11741"/>
                  <a:pt x="14543" y="11723"/>
                  <a:pt x="14660" y="11782"/>
                </a:cubicBezTo>
              </a:path>
              <a:path w="5607" h="1366">
                <a:moveTo>
                  <a:pt x="15032" y="11460"/>
                </a:moveTo>
                <a:cubicBezTo>
                  <a:pt x="15148" y="11452"/>
                  <a:pt x="15262" y="11441"/>
                  <a:pt x="15379" y="11435"/>
                </a:cubicBezTo>
              </a:path>
              <a:path w="5607" h="1366">
                <a:moveTo>
                  <a:pt x="15056" y="11633"/>
                </a:moveTo>
                <a:cubicBezTo>
                  <a:pt x="15182" y="11656"/>
                  <a:pt x="15299" y="11616"/>
                  <a:pt x="15429" y="1158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69000" y="3990960"/>
            <a:ext cx="857160" cy="233280"/>
          </a:xfrm>
          <a:custGeom>
            <a:avLst/>
            <a:gdLst/>
            <a:ahLst/>
            <a:rect l="l" t="t" r="r" b="b"/>
            <a:pathLst>
              <a:path w="2382" h="646">
                <a:moveTo>
                  <a:pt x="16123" y="11584"/>
                </a:moveTo>
                <a:cubicBezTo>
                  <a:pt x="16085" y="11593"/>
                  <a:pt x="16013" y="11630"/>
                  <a:pt x="16024" y="11683"/>
                </a:cubicBezTo>
                <a:cubicBezTo>
                  <a:pt x="16049" y="11805"/>
                  <a:pt x="16176" y="11694"/>
                  <a:pt x="16222" y="11658"/>
                </a:cubicBezTo>
                <a:cubicBezTo>
                  <a:pt x="16140" y="11642"/>
                  <a:pt x="16124" y="11654"/>
                  <a:pt x="16148" y="11584"/>
                </a:cubicBezTo>
              </a:path>
              <a:path w="2382" h="646">
                <a:moveTo>
                  <a:pt x="16495" y="11137"/>
                </a:moveTo>
                <a:cubicBezTo>
                  <a:pt x="16480" y="11224"/>
                  <a:pt x="16438" y="11300"/>
                  <a:pt x="16421" y="11385"/>
                </a:cubicBezTo>
                <a:cubicBezTo>
                  <a:pt x="16538" y="11400"/>
                  <a:pt x="16733" y="11434"/>
                  <a:pt x="16842" y="11361"/>
                </a:cubicBezTo>
                <a:cubicBezTo>
                  <a:pt x="16842" y="11344"/>
                  <a:pt x="16842" y="11328"/>
                  <a:pt x="16842" y="11311"/>
                </a:cubicBezTo>
              </a:path>
              <a:path w="2382" h="646">
                <a:moveTo>
                  <a:pt x="16892" y="11112"/>
                </a:moveTo>
                <a:cubicBezTo>
                  <a:pt x="16890" y="11172"/>
                  <a:pt x="16823" y="11606"/>
                  <a:pt x="16867" y="11633"/>
                </a:cubicBezTo>
                <a:cubicBezTo>
                  <a:pt x="16875" y="11625"/>
                  <a:pt x="16884" y="11617"/>
                  <a:pt x="16892" y="11609"/>
                </a:cubicBezTo>
              </a:path>
              <a:path w="2382" h="646">
                <a:moveTo>
                  <a:pt x="17190" y="11088"/>
                </a:moveTo>
                <a:cubicBezTo>
                  <a:pt x="17141" y="11191"/>
                  <a:pt x="17040" y="11420"/>
                  <a:pt x="17190" y="11509"/>
                </a:cubicBezTo>
                <a:cubicBezTo>
                  <a:pt x="17338" y="11596"/>
                  <a:pt x="17581" y="11403"/>
                  <a:pt x="17537" y="11237"/>
                </a:cubicBezTo>
                <a:cubicBezTo>
                  <a:pt x="17505" y="11116"/>
                  <a:pt x="17320" y="11161"/>
                  <a:pt x="17264" y="11088"/>
                </a:cubicBezTo>
              </a:path>
              <a:path w="2382" h="646">
                <a:moveTo>
                  <a:pt x="18107" y="11336"/>
                </a:moveTo>
                <a:cubicBezTo>
                  <a:pt x="18213" y="11304"/>
                  <a:pt x="18299" y="11304"/>
                  <a:pt x="18405" y="11336"/>
                </a:cubicBezTo>
              </a:path>
              <a:path w="2382" h="646">
                <a:moveTo>
                  <a:pt x="18058" y="11534"/>
                </a:moveTo>
                <a:cubicBezTo>
                  <a:pt x="18141" y="11534"/>
                  <a:pt x="18223" y="11534"/>
                  <a:pt x="18306" y="1153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0" y="3894120"/>
            <a:ext cx="750960" cy="303120"/>
          </a:xfrm>
          <a:custGeom>
            <a:avLst/>
            <a:gdLst/>
            <a:ahLst/>
            <a:rect l="l" t="t" r="r" b="b"/>
            <a:pathLst>
              <a:path w="2085" h="844">
                <a:moveTo>
                  <a:pt x="19199" y="11088"/>
                </a:moveTo>
                <a:cubicBezTo>
                  <a:pt x="19158" y="11150"/>
                  <a:pt x="19081" y="11250"/>
                  <a:pt x="19050" y="11311"/>
                </a:cubicBezTo>
                <a:cubicBezTo>
                  <a:pt x="19174" y="11311"/>
                  <a:pt x="19298" y="11311"/>
                  <a:pt x="19422" y="11311"/>
                </a:cubicBezTo>
              </a:path>
              <a:path w="2085" h="844">
                <a:moveTo>
                  <a:pt x="19447" y="11112"/>
                </a:moveTo>
                <a:cubicBezTo>
                  <a:pt x="19402" y="11292"/>
                  <a:pt x="19346" y="11474"/>
                  <a:pt x="19323" y="11658"/>
                </a:cubicBezTo>
              </a:path>
              <a:path w="2085" h="844">
                <a:moveTo>
                  <a:pt x="19819" y="11063"/>
                </a:moveTo>
                <a:cubicBezTo>
                  <a:pt x="19671" y="11118"/>
                  <a:pt x="19639" y="11300"/>
                  <a:pt x="19645" y="11460"/>
                </a:cubicBezTo>
                <a:cubicBezTo>
                  <a:pt x="19653" y="11501"/>
                  <a:pt x="19662" y="11543"/>
                  <a:pt x="19670" y="11584"/>
                </a:cubicBezTo>
                <a:cubicBezTo>
                  <a:pt x="19872" y="11631"/>
                  <a:pt x="20017" y="11562"/>
                  <a:pt x="20042" y="11311"/>
                </a:cubicBezTo>
                <a:cubicBezTo>
                  <a:pt x="20056" y="11173"/>
                  <a:pt x="19959" y="11131"/>
                  <a:pt x="19869" y="11063"/>
                </a:cubicBezTo>
              </a:path>
              <a:path w="2085" h="844">
                <a:moveTo>
                  <a:pt x="20315" y="10939"/>
                </a:moveTo>
                <a:cubicBezTo>
                  <a:pt x="20254" y="11017"/>
                  <a:pt x="20249" y="11037"/>
                  <a:pt x="20241" y="11137"/>
                </a:cubicBezTo>
                <a:cubicBezTo>
                  <a:pt x="20378" y="11160"/>
                  <a:pt x="20484" y="11139"/>
                  <a:pt x="20489" y="10964"/>
                </a:cubicBezTo>
                <a:cubicBezTo>
                  <a:pt x="20491" y="10896"/>
                  <a:pt x="20431" y="10840"/>
                  <a:pt x="20389" y="10815"/>
                </a:cubicBezTo>
                <a:cubicBezTo>
                  <a:pt x="20511" y="10815"/>
                  <a:pt x="20652" y="10804"/>
                  <a:pt x="20737" y="10914"/>
                </a:cubicBezTo>
                <a:cubicBezTo>
                  <a:pt x="20887" y="11109"/>
                  <a:pt x="20676" y="11265"/>
                  <a:pt x="20588" y="11410"/>
                </a:cubicBezTo>
                <a:cubicBezTo>
                  <a:pt x="20580" y="11435"/>
                  <a:pt x="20571" y="11460"/>
                  <a:pt x="20563" y="11485"/>
                </a:cubicBezTo>
              </a:path>
              <a:path w="2085" h="844">
                <a:moveTo>
                  <a:pt x="20861" y="11460"/>
                </a:moveTo>
                <a:cubicBezTo>
                  <a:pt x="20840" y="11584"/>
                  <a:pt x="20876" y="11690"/>
                  <a:pt x="21034" y="11609"/>
                </a:cubicBezTo>
                <a:cubicBezTo>
                  <a:pt x="21253" y="11496"/>
                  <a:pt x="21089" y="11389"/>
                  <a:pt x="20960" y="1133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32160" y="4500720"/>
            <a:ext cx="669960" cy="571320"/>
          </a:xfrm>
          <a:custGeom>
            <a:avLst/>
            <a:gdLst/>
            <a:ahLst/>
            <a:rect l="l" t="t" r="r" b="b"/>
            <a:pathLst>
              <a:path w="1862" h="1588">
                <a:moveTo>
                  <a:pt x="12005" y="12502"/>
                </a:moveTo>
                <a:cubicBezTo>
                  <a:pt x="12042" y="12656"/>
                  <a:pt x="12055" y="12790"/>
                  <a:pt x="12055" y="12948"/>
                </a:cubicBezTo>
                <a:cubicBezTo>
                  <a:pt x="12055" y="12956"/>
                  <a:pt x="12055" y="12965"/>
                  <a:pt x="12055" y="12973"/>
                </a:cubicBezTo>
              </a:path>
              <a:path w="1862" h="1588">
                <a:moveTo>
                  <a:pt x="12626" y="12551"/>
                </a:moveTo>
                <a:cubicBezTo>
                  <a:pt x="12764" y="12539"/>
                  <a:pt x="12869" y="12603"/>
                  <a:pt x="12874" y="12774"/>
                </a:cubicBezTo>
                <a:cubicBezTo>
                  <a:pt x="12878" y="12899"/>
                  <a:pt x="12693" y="12990"/>
                  <a:pt x="12601" y="12898"/>
                </a:cubicBezTo>
                <a:cubicBezTo>
                  <a:pt x="12593" y="12873"/>
                  <a:pt x="12584" y="12849"/>
                  <a:pt x="12576" y="12824"/>
                </a:cubicBezTo>
                <a:cubicBezTo>
                  <a:pt x="12711" y="12730"/>
                  <a:pt x="12771" y="12746"/>
                  <a:pt x="12923" y="12799"/>
                </a:cubicBezTo>
                <a:cubicBezTo>
                  <a:pt x="13004" y="12826"/>
                  <a:pt x="13036" y="12834"/>
                  <a:pt x="13097" y="12824"/>
                </a:cubicBezTo>
              </a:path>
              <a:path w="1862" h="1588">
                <a:moveTo>
                  <a:pt x="13295" y="12626"/>
                </a:moveTo>
                <a:cubicBezTo>
                  <a:pt x="13229" y="12737"/>
                  <a:pt x="13204" y="12763"/>
                  <a:pt x="13221" y="12849"/>
                </a:cubicBezTo>
                <a:cubicBezTo>
                  <a:pt x="13311" y="12902"/>
                  <a:pt x="13522" y="12933"/>
                  <a:pt x="13568" y="12774"/>
                </a:cubicBezTo>
                <a:cubicBezTo>
                  <a:pt x="13611" y="12623"/>
                  <a:pt x="13453" y="12585"/>
                  <a:pt x="13370" y="12551"/>
                </a:cubicBezTo>
              </a:path>
              <a:path w="1862" h="1588">
                <a:moveTo>
                  <a:pt x="11757" y="12824"/>
                </a:moveTo>
                <a:cubicBezTo>
                  <a:pt x="11852" y="12807"/>
                  <a:pt x="11933" y="12799"/>
                  <a:pt x="12030" y="12799"/>
                </a:cubicBezTo>
              </a:path>
              <a:path w="1862" h="1588">
                <a:moveTo>
                  <a:pt x="11757" y="13122"/>
                </a:moveTo>
                <a:cubicBezTo>
                  <a:pt x="12073" y="13142"/>
                  <a:pt x="12384" y="13196"/>
                  <a:pt x="12700" y="13221"/>
                </a:cubicBezTo>
                <a:cubicBezTo>
                  <a:pt x="12989" y="13244"/>
                  <a:pt x="13279" y="13275"/>
                  <a:pt x="13568" y="13295"/>
                </a:cubicBezTo>
              </a:path>
              <a:path w="1862" h="1588">
                <a:moveTo>
                  <a:pt x="13469" y="13469"/>
                </a:moveTo>
                <a:cubicBezTo>
                  <a:pt x="13329" y="13504"/>
                  <a:pt x="13298" y="13590"/>
                  <a:pt x="13221" y="13717"/>
                </a:cubicBezTo>
                <a:cubicBezTo>
                  <a:pt x="13179" y="13786"/>
                  <a:pt x="13058" y="14094"/>
                  <a:pt x="13271" y="14089"/>
                </a:cubicBezTo>
                <a:cubicBezTo>
                  <a:pt x="13481" y="14084"/>
                  <a:pt x="13643" y="13914"/>
                  <a:pt x="13593" y="13717"/>
                </a:cubicBezTo>
                <a:cubicBezTo>
                  <a:pt x="13568" y="13617"/>
                  <a:pt x="13489" y="13581"/>
                  <a:pt x="13419" y="1351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040" y="4670280"/>
            <a:ext cx="938160" cy="393840"/>
          </a:xfrm>
          <a:custGeom>
            <a:avLst/>
            <a:gdLst/>
            <a:ahLst/>
            <a:rect l="l" t="t" r="r" b="b"/>
            <a:pathLst>
              <a:path w="2606" h="1092">
                <a:moveTo>
                  <a:pt x="2505" y="13072"/>
                </a:moveTo>
                <a:cubicBezTo>
                  <a:pt x="2402" y="13042"/>
                  <a:pt x="2291" y="12985"/>
                  <a:pt x="2183" y="12973"/>
                </a:cubicBezTo>
                <a:cubicBezTo>
                  <a:pt x="2034" y="12956"/>
                  <a:pt x="1858" y="12977"/>
                  <a:pt x="1712" y="12998"/>
                </a:cubicBezTo>
                <a:cubicBezTo>
                  <a:pt x="1606" y="13013"/>
                  <a:pt x="1476" y="13024"/>
                  <a:pt x="1414" y="13122"/>
                </a:cubicBezTo>
                <a:cubicBezTo>
                  <a:pt x="1349" y="13225"/>
                  <a:pt x="1391" y="13413"/>
                  <a:pt x="1414" y="13519"/>
                </a:cubicBezTo>
                <a:cubicBezTo>
                  <a:pt x="1452" y="13692"/>
                  <a:pt x="1528" y="13785"/>
                  <a:pt x="1687" y="13866"/>
                </a:cubicBezTo>
                <a:cubicBezTo>
                  <a:pt x="1913" y="13981"/>
                  <a:pt x="2210" y="13954"/>
                  <a:pt x="2456" y="14015"/>
                </a:cubicBezTo>
                <a:cubicBezTo>
                  <a:pt x="2690" y="14073"/>
                  <a:pt x="2882" y="14064"/>
                  <a:pt x="3125" y="14039"/>
                </a:cubicBezTo>
                <a:cubicBezTo>
                  <a:pt x="3344" y="14016"/>
                  <a:pt x="3565" y="13999"/>
                  <a:pt x="3770" y="13915"/>
                </a:cubicBezTo>
                <a:cubicBezTo>
                  <a:pt x="3896" y="13863"/>
                  <a:pt x="3974" y="13780"/>
                  <a:pt x="3994" y="13643"/>
                </a:cubicBezTo>
                <a:cubicBezTo>
                  <a:pt x="4015" y="13499"/>
                  <a:pt x="3979" y="13391"/>
                  <a:pt x="3870" y="13295"/>
                </a:cubicBezTo>
                <a:cubicBezTo>
                  <a:pt x="3764" y="13202"/>
                  <a:pt x="3609" y="13128"/>
                  <a:pt x="3473" y="13097"/>
                </a:cubicBezTo>
                <a:cubicBezTo>
                  <a:pt x="3212" y="13037"/>
                  <a:pt x="2920" y="13029"/>
                  <a:pt x="2654" y="13047"/>
                </a:cubicBezTo>
                <a:cubicBezTo>
                  <a:pt x="2477" y="13059"/>
                  <a:pt x="2324" y="13076"/>
                  <a:pt x="2158" y="1312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1:32:58Z</dcterms:created>
  <dc:creator>TAMMY  COON</dc:creator>
  <dc:description/>
  <dc:language>en-US</dc:language>
  <cp:lastModifiedBy>ccps</cp:lastModifiedBy>
  <cp:lastPrinted>2010-03-04T04:54:40Z</cp:lastPrinted>
  <dcterms:modified xsi:type="dcterms:W3CDTF">2010-03-05T19:17:49Z</dcterms:modified>
  <cp:revision>11</cp:revision>
  <dc:subject/>
  <dc:title>Opener:</dc:title>
</cp:coreProperties>
</file>